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tyle shee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n embedded style shee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pply color and background color to text, add styles to links in their various states, and apply styles using the &lt;div&gt; and &lt;span&gt; t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e the font face and font size of your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 linked style sheet to control the appearance of multiple pages at o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ink stat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default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, which is the normal state of a link that has not been clicked on.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hover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, which happens when you place your mouse pointer over a link.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active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, which is activated when you click on a link—before you release the mouse button.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visited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, which is the state of a link that has been clicked on.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CSS: Web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Adding col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Text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Linked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rif and sans-serif fo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10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Serif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fonts have ‘flourishes’ at the ends of letters:</a:t>
            </a:r>
            <a:br>
              <a:rPr sz="3200"/>
            </a:br>
            <a:br>
              <a:rPr sz="1800"/>
            </a:br>
            <a:r>
              <a:rPr b="0" lang="en-US" sz="4000" spc="-1" strike="noStrike">
                <a:solidFill>
                  <a:srgbClr val="003399"/>
                </a:solidFill>
                <a:latin typeface="Bookman Old Style"/>
              </a:rPr>
              <a:t>This is a serif font face.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9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Sans-serif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fonts do not:</a:t>
            </a: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is is a sans-serif font face.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CSS: Web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Adding col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Text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D: Linked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Linked style shee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an control the appearance of multiple Web page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Ex6-4" descr=""/>
          <p:cNvPicPr/>
          <p:nvPr/>
        </p:nvPicPr>
        <p:blipFill>
          <a:blip r:embed="rId2"/>
          <a:stretch/>
        </p:blipFill>
        <p:spPr>
          <a:xfrm>
            <a:off x="2319480" y="2351160"/>
            <a:ext cx="5194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reate an embedded style shee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apply color and background color using keywords and hexadecimal values, as well as how to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pply color to links in their various stat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pply styles using the &lt;div&gt; and &lt;span&gt; tag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hange the font face and font size of your tex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earned how to create a style sheet and link multiple documents to i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CSS: Web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Adding col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Linked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tyle sheet synta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select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{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propert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; }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selector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the HTML element being styl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property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declares the action taken on the el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is the exact specification of the propert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mbedded style shee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trol only the page in which they are embedd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ust be inserted inside the HEAD section of an HTML document:</a:t>
            </a:r>
            <a:br>
              <a:rPr sz="3200"/>
            </a:br>
            <a:br>
              <a:rPr sz="1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html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head&gt;&lt;title&gt;My Title&lt;/title&gt;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&lt;style type=“text/css”&gt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 { color: navy; 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&lt;/style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/head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body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p&gt;this paragraph will be navy.&lt;/p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/body&gt;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CSS: Web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Adding col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Text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Linked 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exadecimal valu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signate the intensity of red, green, and blue that combine to create a color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Ex6-1" descr=""/>
          <p:cNvPicPr/>
          <p:nvPr/>
        </p:nvPicPr>
        <p:blipFill>
          <a:blip r:embed="rId2"/>
          <a:stretch/>
        </p:blipFill>
        <p:spPr>
          <a:xfrm>
            <a:off x="3305160" y="2936880"/>
            <a:ext cx="3456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tting multiple properti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7560" y="1282680"/>
            <a:ext cx="656748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f you want to apply more than one property in a given style rule, separate each property and its value with a semicol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h1 { color: navy</a:t>
            </a:r>
            <a:r>
              <a:rPr b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 background-color: silver; }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rouping selecto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7560" y="1282680"/>
            <a:ext cx="656748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To apply a style two multiple elements in a single rule, you can group selectors by separating them with a com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h1</a:t>
            </a:r>
            <a:r>
              <a:rPr b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 p { background-color: silver; }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&lt;div&gt; tag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6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roups large sections of code: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&lt;div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p&gt;Text of paragraph&lt;/p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p&gt;Text of second paragraph&lt;/p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blockquote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Text of quotation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/blockquote&gt;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&lt;p&gt;Last paragraph&lt;/p&gt;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&lt;/div&gt;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6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o apply styles to whole section:</a:t>
            </a:r>
            <a:br>
              <a:rPr sz="3200"/>
            </a:br>
            <a:br>
              <a:rPr sz="10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iv { background-color: #eeeeee; }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Josh Pincus</cp:lastModifiedBy>
  <dcterms:modified xsi:type="dcterms:W3CDTF">2004-08-16T15:28:12Z</dcterms:modified>
  <cp:revision>34</cp:revision>
  <dc:subject/>
  <dc:title>Introduction to HTML 4.01</dc:title>
</cp:coreProperties>
</file>