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33720" y="-36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%20Slide%20Graphic%204%20150dpi%20s80%20c" descr=""/>
          <p:cNvPicPr/>
          <p:nvPr/>
        </p:nvPicPr>
        <p:blipFill>
          <a:blip r:embed="rId3"/>
          <a:stretch/>
        </p:blipFill>
        <p:spPr>
          <a:xfrm>
            <a:off x="0" y="615960"/>
            <a:ext cx="1060560" cy="6242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66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161640" y="971280"/>
            <a:ext cx="729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rse I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3372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720" y="-28440"/>
            <a:ext cx="6858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99"/>
                </a:solidFill>
                <a:latin typeface="Arial"/>
              </a:rPr>
              <a:t>HTML 4.0: Basic, Second Edition (Revised)</a:t>
            </a:r>
            <a:endParaRPr b="0" lang="en-US" sz="2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Getting starte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tructuring tex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in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mag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ab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tyle shee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5:54:34Z</dcterms:created>
  <dc:creator>Adam Wilcox</dc:creator>
  <dc:description/>
  <dc:language>en-US</dc:language>
  <cp:lastModifiedBy>Josh Pincus</cp:lastModifiedBy>
  <dcterms:modified xsi:type="dcterms:W3CDTF">2004-08-16T15:24:05Z</dcterms:modified>
  <cp:revision>6</cp:revision>
  <dc:subject/>
  <dc:title>HTML 4.01: Basic</dc:title>
</cp:coreProperties>
</file>