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the most appropriate image type for a given tas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d images to a page, create alternative text, align text around an image, and create image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Image forma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Inserting im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mage forma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IF images are best for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on-photographic imag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ages with 256 or fewer colo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PEG (JPG) images are best for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tographic imag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ages containing many colo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Image forma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Inserting im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nserting an imag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&lt;img&gt; tag: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img src=“images/mylogo.gif”&gt;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lternative image tex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nsures pages are accessib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45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al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ttribute: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img src=“images/mylogo.gif” height=“100” width=“200”  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lt=“MyCompany Logo”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choose the most appropriate image type for a given situation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insert images in a Web page by using the img tag, as well as how to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ecify image dimens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pecify alternative image tex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ign images in a variety of way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ke an image a hyperlin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1:32:20Z</dcterms:created>
  <dc:creator>Brandon</dc:creator>
  <dc:description/>
  <dc:language>en-US</dc:language>
  <cp:lastModifiedBy>Brandon</cp:lastModifiedBy>
  <dcterms:modified xsi:type="dcterms:W3CDTF">2004-02-18T21:29:43Z</dcterms:modified>
  <cp:revision>11</cp:revision>
  <dc:subject/>
  <dc:title>Introduction to HTML 4.01</dc:title>
</cp:coreProperties>
</file>