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94920" y="392004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9984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7144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4796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9492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7144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4796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33720" y="-360"/>
            <a:ext cx="6858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9984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P%20Slide%20Graphic%204%20150dpi%20s80%20c" descr=""/>
          <p:cNvPicPr/>
          <p:nvPr/>
        </p:nvPicPr>
        <p:blipFill>
          <a:blip r:embed="rId3"/>
          <a:stretch/>
        </p:blipFill>
        <p:spPr>
          <a:xfrm>
            <a:off x="0" y="615960"/>
            <a:ext cx="1060560" cy="62420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917640" indent="-344520">
              <a:spcBef>
                <a:spcPts val="799"/>
              </a:spcBef>
              <a:buClr>
                <a:srgbClr val="6699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2" marL="1434960" indent="-353880">
              <a:spcBef>
                <a:spcPts val="799"/>
              </a:spcBef>
              <a:buClr>
                <a:srgbClr val="66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3" marL="1835280" indent="-236520">
              <a:spcBef>
                <a:spcPts val="79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4" marL="2281320" indent="-223920">
              <a:spcBef>
                <a:spcPts val="799"/>
              </a:spcBef>
              <a:buClr>
                <a:srgbClr val="6699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5" marL="228132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6" marL="228132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 rot="10800000">
            <a:off x="161640" y="971280"/>
            <a:ext cx="7290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urse IL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2133720" cy="714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Getting started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Unit Objective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Browse the Web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View the source code of an HTML documen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reate a basic Web pag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  <a:ea typeface="Times New Roman"/>
              </a:rPr>
              <a:t>Topic A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Topic A: Introduction to the Web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  <a:ea typeface="Times New Roman"/>
              </a:rPr>
              <a:t>Topic B: HTML 4.01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  <a:ea typeface="Times New Roman"/>
              </a:rPr>
              <a:t>Topic C: Basic HTML structur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The Microsoft home page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46" name="newfig" descr=""/>
          <p:cNvPicPr/>
          <p:nvPr/>
        </p:nvPicPr>
        <p:blipFill>
          <a:blip r:embed="rId2"/>
          <a:stretch/>
        </p:blipFill>
        <p:spPr>
          <a:xfrm>
            <a:off x="2360520" y="1143000"/>
            <a:ext cx="509112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  <a:ea typeface="Times New Roman"/>
              </a:rPr>
              <a:t>Topic B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  <a:ea typeface="Times New Roman"/>
              </a:rPr>
              <a:t>Topic A: Introduction to the Web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Topic B: HTML 4.01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  <a:ea typeface="Times New Roman"/>
              </a:rPr>
              <a:t>Topic C: Basic HTML structur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HTML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Means Hypertext Markup Languag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onsists of elements called </a:t>
            </a:r>
            <a:r>
              <a:rPr b="0" i="1" lang="en-US" sz="3200" spc="-1" strike="noStrike">
                <a:solidFill>
                  <a:srgbClr val="003399"/>
                </a:solidFill>
                <a:latin typeface="Arial"/>
              </a:rPr>
              <a:t>tag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  <a:ea typeface="Times New Roman"/>
              </a:rPr>
              <a:t>Topic C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  <a:ea typeface="Times New Roman"/>
              </a:rPr>
              <a:t>Topic A: Introduction to the Web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  <a:ea typeface="Times New Roman"/>
              </a:rPr>
              <a:t>Topic B: HTML 4.01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Topic C: Basic HTML structur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Basic HTML structure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295280" y="990720"/>
            <a:ext cx="7620120" cy="56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8640" indent="-458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&lt;html&gt;   &lt;/html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8640" indent="-458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  <a:ea typeface="Times New Roman"/>
              </a:rPr>
              <a:t>The root element that identifies the document as HTML. All HTML documents are contained within these tags.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8640" indent="-458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&lt;head&gt;   &lt;/head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8640" indent="-458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  <a:ea typeface="Times New Roman"/>
              </a:rPr>
              <a:t>The </a:t>
            </a:r>
            <a:r>
              <a:rPr b="0" lang="en-US" sz="24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&lt;head&gt;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  <a:ea typeface="Times New Roman"/>
              </a:rPr>
              <a:t> element contains the document title and other resources that are not meant to display as content on the page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8640" indent="-458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&lt;body&gt;   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8640" indent="-458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  <a:ea typeface="Times New Roman"/>
              </a:rPr>
              <a:t>The </a:t>
            </a:r>
            <a:r>
              <a:rPr b="0" lang="en-US" sz="24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&lt;body&gt;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  <a:ea typeface="Times New Roman"/>
              </a:rPr>
              <a:t> element contains the page content. Inside the </a:t>
            </a:r>
            <a:r>
              <a:rPr b="0" lang="en-US" sz="24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&lt;body&gt;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  <a:ea typeface="Times New Roman"/>
              </a:rPr>
              <a:t> container, you enter your headings, paragraphs, images, and all other viewable content.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8640" indent="-458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Minimal HTML document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&lt;html&gt;</a:t>
            </a:r>
            <a:br>
              <a:rPr sz="3200"/>
            </a:b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&lt;head&gt;</a:t>
            </a:r>
            <a:br>
              <a:rPr sz="3200"/>
            </a:b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&lt;title&gt;My Document&lt;/title&gt;</a:t>
            </a:r>
            <a:br>
              <a:rPr sz="3200"/>
            </a:b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&lt;/head&gt;</a:t>
            </a:r>
            <a:br>
              <a:rPr sz="3200"/>
            </a:b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&lt;body&gt;</a:t>
            </a:r>
            <a:br>
              <a:rPr sz="3200"/>
            </a:b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is is the page content.</a:t>
            </a:r>
            <a:br>
              <a:rPr sz="3200"/>
            </a:b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&lt;/body&gt;</a:t>
            </a:r>
            <a:br>
              <a:rPr sz="3200"/>
            </a:b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&lt;/html&gt;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Unit summary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Learned how to browse the Web using the address bar and hyperlinks, and learned the components of a UR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Learned that HTML consists of pre-defined elements called </a:t>
            </a:r>
            <a:r>
              <a:rPr b="0" i="1" lang="en-US" sz="3200" spc="-1" strike="noStrike">
                <a:solidFill>
                  <a:srgbClr val="003399"/>
                </a:solidFill>
                <a:latin typeface="Arial"/>
              </a:rPr>
              <a:t>tags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, as well as how to view the source code of a Web pag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Learned how to create a simple Web pag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1T21:32:20Z</dcterms:created>
  <dc:creator>Brandon</dc:creator>
  <dc:description/>
  <dc:language>en-US</dc:language>
  <cp:lastModifiedBy>Brandon</cp:lastModifiedBy>
  <dcterms:modified xsi:type="dcterms:W3CDTF">2004-02-18T20:50:49Z</dcterms:modified>
  <cp:revision>12</cp:revision>
  <dc:subject/>
  <dc:title>Introduction to HTML 4.01</dc:title>
</cp:coreProperties>
</file>