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elected objec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539720" y="1652760"/>
          <a:ext cx="5053320" cy="33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9720" y="1652760"/>
                    <a:ext cx="5053320" cy="33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elect multiple objects</a:t>
            </a:r>
            <a:r>
              <a:rPr b="0" lang="en-US" sz="4400" spc="-1" strike="noStrike">
                <a:solidFill>
                  <a:srgbClr val="8a796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Hold the Shift key as you click object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Drag a marquee around the object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OR, use the o</a:t>
            </a: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ptions in the Select menu, in the Editing group on the Home tab: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Select and choose Select All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Select and choose Select by Type;  then select your options and click OK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Select and choose Lasso Select; then draw a freeform shape around the objects 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  <a:ea typeface="Times New Roman"/>
              </a:rPr>
              <a:t>Scale and resize an objec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1403280" y="1509840"/>
          <a:ext cx="556920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09840"/>
                    <a:ext cx="5569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Catherine M. Albano</cp:lastModifiedBy>
  <dcterms:modified xsi:type="dcterms:W3CDTF">2011-02-18T00:15:30Z</dcterms:modified>
  <cp:revision>56</cp:revision>
  <dc:subject/>
  <dc:title>Exploring the Visio environment</dc:title>
</cp:coreProperties>
</file>