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7967"/>
                </a:solidFill>
                <a:latin typeface="Arial"/>
              </a:rPr>
              <a:t>Brainstorming menu commands</a:t>
            </a:r>
            <a:endParaRPr b="0" lang="en-US" sz="3600" spc="-1" strike="noStrike">
              <a:solidFill>
                <a:srgbClr val="8a7967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508040" y="1722600"/>
          <a:ext cx="7280280" cy="3466800"/>
        </p:xfrm>
        <a:graphic>
          <a:graphicData uri="http://schemas.openxmlformats.org/drawingml/2006/table">
            <a:tbl>
              <a:tblPr/>
              <a:tblGrid>
                <a:gridCol w="2035440"/>
                <a:gridCol w="524484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Command</a:t>
                      </a: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Auto-Arrang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Automatically arranges topics in a brainstorming diagra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Ma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Inserts a Main Topic shape in the diagra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Subtop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Attaches a subtopic to the selected topi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Pe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</a:rPr>
                        <a:t>Inserts a topic at the same level as the selected topi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Multiple Subtopic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</a:rPr>
                        <a:t>Opens the Add Multiple Subtopics dialog box, which you can use to insert several subtopics simultaneously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Change Top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</a:rPr>
                        <a:t>Opens the Change Shape dialog box, which you can use to change the shape of a selected topi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7967"/>
                </a:solidFill>
                <a:latin typeface="Arial"/>
              </a:rPr>
              <a:t>Brainstorming diagram example</a:t>
            </a:r>
            <a:endParaRPr b="0" lang="en-US" sz="36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2680" y="1227240"/>
            <a:ext cx="6948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Export diagram to XM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brainstorming diagram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Brainstorming tab, click Export Data and choose To XML. The File Save dialog box open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Navigate to the location where you want to save the XML fi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Save. Visio exports the data to XML. A message box appears indicating that the export is complet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Import XML data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reate a new drawing based on the Brainstorming Diagram templat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Brainstorming tab, click Import Data. The File Open dialog box appear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Navigate to the location of the XML file you want to im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uble-click the file, or select it and click Open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 </cp:lastModifiedBy>
  <dcterms:modified xsi:type="dcterms:W3CDTF">2011-02-16T01:06:13Z</dcterms:modified>
  <cp:revision>25</cp:revision>
  <dc:subject/>
  <dc:title>Exploring the Visio environment </dc:title>
</cp:coreProperties>
</file>