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Picture 4" descr="ILT PPT sidebar 2008b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7967"/>
                </a:solidFill>
                <a:latin typeface="Arial"/>
                <a:ea typeface="Times New Roman"/>
              </a:rPr>
              <a:t>Visio Professional 2010: Basic</a:t>
            </a:r>
            <a:endParaRPr b="0" lang="en-US" sz="36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Getting started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Drawing tools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Basic diagrams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Formatting drawings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Working with pages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Network and brainstorming diagrams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Customization and reporting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2:41:01Z</dcterms:created>
  <dc:creator>K.M.Subhash</dc:creator>
  <dc:description/>
  <dc:language>en-US</dc:language>
  <cp:lastModifiedBy>Catherine M. Albano</cp:lastModifiedBy>
  <dcterms:modified xsi:type="dcterms:W3CDTF">2011-02-18T00:05:00Z</dcterms:modified>
  <cp:revision>12</cp:revision>
  <dc:subject/>
  <dc:title>Office 2003: Web Components and Collaboration</dc:title>
</cp:coreProperties>
</file>