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7967"/>
                </a:solidFill>
                <a:latin typeface="Arial"/>
              </a:rPr>
              <a:t>Brainstorming menu commands</a:t>
            </a:r>
            <a:endParaRPr b="0" lang="en-US" sz="3600" spc="-1" strike="noStrike">
              <a:solidFill>
                <a:srgbClr val="8a7967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1508040" y="1722600"/>
          <a:ext cx="7280280" cy="3466800"/>
        </p:xfrm>
        <a:graphic>
          <a:graphicData uri="http://schemas.openxmlformats.org/drawingml/2006/table">
            <a:tbl>
              <a:tblPr/>
              <a:tblGrid>
                <a:gridCol w="2035440"/>
                <a:gridCol w="524484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a7967"/>
                          </a:solidFill>
                          <a:latin typeface="Arial"/>
                          <a:ea typeface="Times New Roman"/>
                        </a:rPr>
                        <a:t>Command</a:t>
                      </a:r>
                      <a:r>
                        <a:rPr b="1" lang="en-US" sz="16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a7967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8a7967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Auto-Arrang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Automatically arranges topics in a brainstorming diagra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Ma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Inserts a Main Topic shape in the diagra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Subtopic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Attaches a subtopic to the selected topic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Pe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</a:rPr>
                        <a:t>Inserts a topic at the same level as the selected topic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Multiple Subtopic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</a:rPr>
                        <a:t>Opens the Add Multiple Subtopics dialog box, which you can use to insert several subtopics simultaneously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  <a:ea typeface="Times New Roman"/>
                        </a:rPr>
                        <a:t>Change Topi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8a7967"/>
                          </a:solidFill>
                          <a:latin typeface="Times New Roman"/>
                        </a:rPr>
                        <a:t>Opens the Change Shape dialog box, which you can use to change the shape of a selected topic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7967"/>
                </a:solidFill>
                <a:latin typeface="Arial"/>
              </a:rPr>
              <a:t>Brainstorming diagram example</a:t>
            </a:r>
            <a:endParaRPr b="0" lang="en-US" sz="36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3" name="Picture 7" descr="brainstorm"/>
          <p:cNvPicPr/>
          <p:nvPr/>
        </p:nvPicPr>
        <p:blipFill>
          <a:blip r:embed="rId1"/>
          <a:stretch/>
        </p:blipFill>
        <p:spPr>
          <a:xfrm>
            <a:off x="1552680" y="1227240"/>
            <a:ext cx="6948360" cy="458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Export diagram to XML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brainstorming diagram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Brainstorming tab, click Export Data and choose To XML; the File Save dialog box open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Navigate to the location where you want to save the XML fi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Save; Visio exports the data to XML; a message box appears, indicating that the export is complete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Import XML data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reate a new drawing based on the Brainstorming Diagram templat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Brainstorming tab, click Import Data; the File Open dialog box appear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Navigate to the location of the XML file you want to impo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ouble-click the file, or select it and click Open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36:09Z</dcterms:modified>
  <cp:revision>28</cp:revision>
  <dc:subject/>
  <dc:title>Exploring the Visio environment</dc:title>
</cp:coreProperties>
</file>