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Advanced formatt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ormat a drawing by using theme colors and effects and by using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custom template and create a drawing based on a templat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hemes and sty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emplates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Save a custom template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Save A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a loc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a n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Save as type list, select Template (*.vs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Sav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drawing from a template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New Drawing from Templ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avigate to the location where the template is stor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template and click Op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ange the drawing as needed, and save i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format a drawing by using theme colors and effects, and using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a custom template and create a drawing based on a templat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hemes and sty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emplate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me colo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68560" y="1538280"/>
            <a:ext cx="41958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Theme task pa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13000" y="1670040"/>
            <a:ext cx="37753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Theme Effects lin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52880" y="1657440"/>
            <a:ext cx="3884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Creating theme colors and effects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98680" y="2017800"/>
            <a:ext cx="7092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custom theme in the task pan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87600" y="1542960"/>
            <a:ext cx="32544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Define Styles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4" descr=""/>
          <p:cNvPicPr/>
          <p:nvPr/>
        </p:nvPicPr>
        <p:blipFill>
          <a:blip r:embed="rId1"/>
          <a:srcRect l="-1236" t="0" r="0" b="0"/>
          <a:stretch/>
        </p:blipFill>
        <p:spPr>
          <a:xfrm>
            <a:off x="3135240" y="1536840"/>
            <a:ext cx="37022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tyle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025" descr=""/>
          <p:cNvPicPr/>
          <p:nvPr/>
        </p:nvPicPr>
        <p:blipFill>
          <a:blip r:embed="rId1"/>
          <a:stretch/>
        </p:blipFill>
        <p:spPr>
          <a:xfrm>
            <a:off x="2874960" y="2136600"/>
            <a:ext cx="46339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Josh Pincus</cp:lastModifiedBy>
  <dcterms:modified xsi:type="dcterms:W3CDTF">2007-08-08T18:43:39Z</dcterms:modified>
  <cp:revision>124</cp:revision>
  <dc:subject/>
  <dc:title>PowerPoint Presentation</dc:title>
</cp:coreProperties>
</file>