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Arial"/>
                <a:ea typeface="Times New Roman"/>
              </a:rPr>
              <a:t>Software and database diagrams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prototype for a program window, based on the Windows XP interface, and draw the physical architecture of the pro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database model diagram and reverse engineer a table from a databas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 program-window prototype based on the Windows XP interface, and create a drawing of the physical architecture required for a pro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 database model diagram and reverse engineer a table from a databa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ocumenting software syste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Database model diagram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 window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for a user interfa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oftware and Database, Windows XP User Interfac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Windows and Dialogs stencil, drag the Blank form shape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buttons to the title bar and other window components such as menu bars, toolbars, and scrollba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a title for the wind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reate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n enterprise application diagram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oftware and Database, Enterprise Applic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shapes that represent physical components to the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nnect the shapes as need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titles for th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Documenting software syste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Database model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Database model diagram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Software and Database, Database Model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Database, Options,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database sett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Entity Relationship or Object Relational stencil, drag the Entity shape to the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ntinu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Database model diagrams, continu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Database Properties window, specify the properties of the entit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columns to the entity, as necessary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data in the colum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more entities as need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relationships between entities 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onnect the tables by using AutoConnect, the Connector tool, or the Connector shapes in the stenci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connecting line to edit its properti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Database Properties window, select the primary key in the parent ta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foreign key in the child tab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oreign Key Role Name text box, enter the role na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  <a:ea typeface="Times New Roman"/>
              </a:rPr>
              <a:t>The Reverse Engineer Wizard 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57240" y="1541520"/>
            <a:ext cx="663588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5:46Z</dcterms:modified>
  <cp:revision>117</cp:revision>
  <dc:subject/>
  <dc:title>PowerPoint Presentation</dc:title>
</cp:coreProperties>
</file>