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Visio Professional 2007: Advanced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ing technical layou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vanced format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ustom shape desig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Business diagrams and Web site mapp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tegrating Visio with other pro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oftware and database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Josh Pincus</cp:lastModifiedBy>
  <dcterms:modified xsi:type="dcterms:W3CDTF">2007-08-08T18:42:31Z</dcterms:modified>
  <cp:revision>21</cp:revision>
  <dc:subject/>
  <dc:title>PowerPoint Presentation</dc:title>
</cp:coreProperties>
</file>