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8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0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Basic diagrams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Plan a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 basic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e basic text featur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n organization char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onnecting shap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990880" y="2762280"/>
            <a:ext cx="410364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onnector shap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225960" y="1879560"/>
            <a:ext cx="3238200" cy="3187800"/>
            <a:chOff x="3225960" y="1879560"/>
            <a:chExt cx="3238200" cy="3187800"/>
          </a:xfrm>
        </p:grpSpPr>
        <p:sp>
          <p:nvSpPr>
            <p:cNvPr id="68" name=""/>
            <p:cNvSpPr/>
            <p:nvPr/>
          </p:nvSpPr>
          <p:spPr>
            <a:xfrm>
              <a:off x="3225960" y="1879560"/>
              <a:ext cx="3238200" cy="318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" name=""/>
            <p:cNvGraphicFramePr/>
            <p:nvPr/>
          </p:nvGraphicFramePr>
          <p:xfrm>
            <a:off x="3281400" y="2003400"/>
            <a:ext cx="3144960" cy="294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81400" y="2003400"/>
                      <a:ext cx="3144960" cy="294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lanning your diagram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Create a basic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 An introduction to text featur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Organization ch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ext in objec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308320" y="2111400"/>
            <a:ext cx="5470560" cy="2514600"/>
            <a:chOff x="2308320" y="2111400"/>
            <a:chExt cx="5470560" cy="2514600"/>
          </a:xfrm>
        </p:grpSpPr>
        <p:sp>
          <p:nvSpPr>
            <p:cNvPr id="76" name=""/>
            <p:cNvSpPr/>
            <p:nvPr/>
          </p:nvSpPr>
          <p:spPr>
            <a:xfrm>
              <a:off x="2308320" y="2111400"/>
              <a:ext cx="5470560" cy="251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Exhibit%201-5" descr=""/>
            <p:cNvPicPr/>
            <p:nvPr/>
          </p:nvPicPr>
          <p:blipFill>
            <a:blip r:embed="rId1"/>
            <a:stretch/>
          </p:blipFill>
          <p:spPr>
            <a:xfrm>
              <a:off x="2397240" y="2205000"/>
              <a:ext cx="5292720" cy="2327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otated tex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978280" y="2370240"/>
            <a:ext cx="4130640" cy="1995480"/>
            <a:chOff x="2978280" y="2370240"/>
            <a:chExt cx="4130640" cy="1995480"/>
          </a:xfrm>
        </p:grpSpPr>
        <p:sp>
          <p:nvSpPr>
            <p:cNvPr id="80" name=""/>
            <p:cNvSpPr/>
            <p:nvPr/>
          </p:nvSpPr>
          <p:spPr>
            <a:xfrm>
              <a:off x="2978280" y="2370240"/>
              <a:ext cx="4130640" cy="19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vbas_u3_ex5" descr=""/>
            <p:cNvPicPr/>
            <p:nvPr/>
          </p:nvPicPr>
          <p:blipFill>
            <a:blip r:embed="rId1"/>
            <a:stretch/>
          </p:blipFill>
          <p:spPr>
            <a:xfrm>
              <a:off x="3110040" y="2508480"/>
              <a:ext cx="3867120" cy="171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hape tex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198960" y="1944720"/>
            <a:ext cx="3687480" cy="2846520"/>
            <a:chOff x="3198960" y="1944720"/>
            <a:chExt cx="3687480" cy="2846520"/>
          </a:xfrm>
        </p:grpSpPr>
        <p:sp>
          <p:nvSpPr>
            <p:cNvPr id="84" name=""/>
            <p:cNvSpPr/>
            <p:nvPr/>
          </p:nvSpPr>
          <p:spPr>
            <a:xfrm>
              <a:off x="3198960" y="1944720"/>
              <a:ext cx="3687480" cy="284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3511440" y="2344680"/>
              <a:ext cx="3061800" cy="2046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Text too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7" name="049" descr=""/>
          <p:cNvPicPr/>
          <p:nvPr/>
        </p:nvPicPr>
        <p:blipFill>
          <a:blip r:embed="rId1"/>
          <a:stretch/>
        </p:blipFill>
        <p:spPr>
          <a:xfrm>
            <a:off x="3562200" y="2652840"/>
            <a:ext cx="2962440" cy="143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otation hand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147840" y="2136600"/>
            <a:ext cx="3789360" cy="2462400"/>
            <a:chOff x="3147840" y="2136600"/>
            <a:chExt cx="3789360" cy="2462400"/>
          </a:xfrm>
        </p:grpSpPr>
        <p:sp>
          <p:nvSpPr>
            <p:cNvPr id="90" name=""/>
            <p:cNvSpPr/>
            <p:nvPr/>
          </p:nvSpPr>
          <p:spPr>
            <a:xfrm>
              <a:off x="3147840" y="2136600"/>
              <a:ext cx="3789360" cy="246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3548160" y="2666880"/>
              <a:ext cx="2989080" cy="140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D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lanning your diagram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Create a basic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An introduction to text featur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D: Organization ch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3399"/>
                </a:solidFill>
                <a:latin typeface="Arial"/>
              </a:rPr>
              <a:t>Add Multiple Shapes dialog box</a:t>
            </a:r>
            <a:endParaRPr b="0" lang="en-US" sz="37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5" name="043" descr=""/>
          <p:cNvPicPr/>
          <p:nvPr/>
        </p:nvPicPr>
        <p:blipFill>
          <a:blip r:embed="rId1"/>
          <a:stretch/>
        </p:blipFill>
        <p:spPr>
          <a:xfrm>
            <a:off x="3511440" y="1622520"/>
            <a:ext cx="306252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lanning your diagram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Create a basic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An introduction to text featur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Organization ch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Organization toolba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259080" y="2143080"/>
            <a:ext cx="3568680" cy="2449440"/>
            <a:chOff x="3259080" y="2143080"/>
            <a:chExt cx="3568680" cy="2449440"/>
          </a:xfrm>
        </p:grpSpPr>
        <p:sp>
          <p:nvSpPr>
            <p:cNvPr id="98" name=""/>
            <p:cNvSpPr/>
            <p:nvPr/>
          </p:nvSpPr>
          <p:spPr>
            <a:xfrm>
              <a:off x="3259080" y="2143080"/>
              <a:ext cx="3568680" cy="24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051" descr=""/>
            <p:cNvPicPr/>
            <p:nvPr/>
          </p:nvPicPr>
          <p:blipFill>
            <a:blip r:embed="rId1"/>
            <a:stretch/>
          </p:blipFill>
          <p:spPr>
            <a:xfrm>
              <a:off x="3810240" y="2663640"/>
              <a:ext cx="2468520" cy="140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plan a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a basic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use basic text featur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an organization char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esign tip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ffective design begins with analyzing the audie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sider the following question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o will use your diagram?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y will they use it?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6699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hat information is most important to them?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sider the design and purpose of your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Planning your diagram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 Create a basic dia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An introduction to text featur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Organization cha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Master shap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6440" y="2678040"/>
          <a:ext cx="449748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440" y="2678040"/>
                    <a:ext cx="449748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AutoConnect button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59280" y="2981160"/>
            <a:ext cx="39668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utoConnect handl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95640" y="2509920"/>
            <a:ext cx="38941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View toolba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9400" y="2668680"/>
            <a:ext cx="4799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Connector too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54240" y="2860560"/>
            <a:ext cx="3976920" cy="10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Steve</cp:lastModifiedBy>
  <dcterms:modified xsi:type="dcterms:W3CDTF">2007-07-17T01:06:38Z</dcterms:modified>
  <cp:revision>26</cp:revision>
  <dc:subject/>
  <dc:title>Exploring the Visio environment </dc:title>
</cp:coreProperties>
</file>