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Working with pag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t file properties for a new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background p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ork with detail pages and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Print Preview mode, and print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Creating and setting up a new draw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Link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Print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Behavior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009" descr=""/>
          <p:cNvPicPr/>
          <p:nvPr/>
        </p:nvPicPr>
        <p:blipFill>
          <a:blip r:embed="rId1"/>
          <a:stretch/>
        </p:blipFill>
        <p:spPr>
          <a:xfrm>
            <a:off x="2811600" y="1916280"/>
            <a:ext cx="43783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Hyperlink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" name="010" descr=""/>
          <p:cNvPicPr/>
          <p:nvPr/>
        </p:nvPicPr>
        <p:blipFill>
          <a:blip r:embed="rId1"/>
          <a:stretch/>
        </p:blipFill>
        <p:spPr>
          <a:xfrm>
            <a:off x="3089160" y="2308320"/>
            <a:ext cx="38214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Creating and setting up a new draw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Printing diagram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Print and Print Preview button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3440" y="2678040"/>
          <a:ext cx="319104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3440" y="2678040"/>
                    <a:ext cx="319104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rint Preview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054" descr=""/>
          <p:cNvPicPr/>
          <p:nvPr/>
        </p:nvPicPr>
        <p:blipFill>
          <a:blip r:embed="rId1"/>
          <a:stretch/>
        </p:blipFill>
        <p:spPr>
          <a:xfrm>
            <a:off x="1525680" y="979560"/>
            <a:ext cx="712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Print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8" name="016" descr=""/>
          <p:cNvPicPr/>
          <p:nvPr/>
        </p:nvPicPr>
        <p:blipFill>
          <a:blip r:embed="rId1"/>
          <a:stretch/>
        </p:blipFill>
        <p:spPr>
          <a:xfrm>
            <a:off x="2952720" y="1911240"/>
            <a:ext cx="40957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set file properties for a new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background p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work with detail pages and link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use Print Preview mode, and print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ing and setting up a new draw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Background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Print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Propertie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16080" y="1203480"/>
            <a:ext cx="4077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Page Setup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6" name="001" descr=""/>
          <p:cNvPicPr/>
          <p:nvPr/>
        </p:nvPicPr>
        <p:blipFill>
          <a:blip r:embed="rId1"/>
          <a:stretch/>
        </p:blipFill>
        <p:spPr>
          <a:xfrm>
            <a:off x="2440080" y="1887480"/>
            <a:ext cx="51195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Page Properties ta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003" descr=""/>
          <p:cNvPicPr/>
          <p:nvPr/>
        </p:nvPicPr>
        <p:blipFill>
          <a:blip r:embed="rId1"/>
          <a:stretch/>
        </p:blipFill>
        <p:spPr>
          <a:xfrm>
            <a:off x="2440080" y="1887480"/>
            <a:ext cx="511956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Creating and setting up a new drawing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Background page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Lin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Print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ckground pag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955880" y="1193760"/>
            <a:ext cx="6591240" cy="4927680"/>
            <a:chOff x="1955880" y="1193760"/>
            <a:chExt cx="6591240" cy="4927680"/>
          </a:xfrm>
        </p:grpSpPr>
        <p:sp>
          <p:nvSpPr>
            <p:cNvPr id="54" name=""/>
            <p:cNvSpPr/>
            <p:nvPr/>
          </p:nvSpPr>
          <p:spPr>
            <a:xfrm>
              <a:off x="1955880" y="1193760"/>
              <a:ext cx="6591240" cy="492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2260440" y="1474920"/>
            <a:ext cx="6197760" cy="441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0440" y="1474920"/>
                      <a:ext cx="6197760" cy="441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ield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65440" y="2698920"/>
          <a:ext cx="6672240" cy="96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698920"/>
                    <a:ext cx="66722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Field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006" descr=""/>
          <p:cNvPicPr/>
          <p:nvPr/>
        </p:nvPicPr>
        <p:blipFill>
          <a:blip r:embed="rId1"/>
          <a:stretch/>
        </p:blipFill>
        <p:spPr>
          <a:xfrm>
            <a:off x="1909800" y="2222640"/>
            <a:ext cx="618012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Steve</cp:lastModifiedBy>
  <dcterms:modified xsi:type="dcterms:W3CDTF">2007-07-17T01:05:37Z</dcterms:modified>
  <cp:revision>22</cp:revision>
  <dc:subject/>
  <dc:title>Exploring the Visio environment </dc:title>
</cp:coreProperties>
</file>