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504B-5EB4-459F-B8B4-0785AB4C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BF1E-F4A0-497B-997C-F3C67E11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B744-1429-4DC6-9FA1-81C5DAE2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60AA-3421-49BA-96FB-CF12DCA94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B69E-9806-4651-A61F-59528A4C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CDE5-6EC0-4DBE-A71B-C265E1E9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9CE6-4C22-4CB9-99C5-E15962A1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5396-E609-48DC-B498-DBF230E8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2E85-32F4-4FBF-A38A-593051D6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BD04-AA82-4B29-9B40-702F3B1A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58CF-17D3-4527-B9DF-54D62DFA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3708-7B64-4413-A621-CF7D11B0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5EAD-B810-4126-8CC6-ADE31654E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ander Sp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our sp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86040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For years we've been involved in food service and manufacturing where the finished product must be consistent week in and week 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ll major food manufacturers buy their spices from premier import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o do we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very Outlander spice is of premium qual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Outlander spices not only excel in quality, flavor, and freshness but also are priced much lower than spices in retail s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16:30:27Z</dcterms:created>
  <dc:creator>Kwils</dc:creator>
  <dc:description/>
  <dc:language>en-US</dc:language>
  <cp:lastModifiedBy>Kwils</cp:lastModifiedBy>
  <dcterms:modified xsi:type="dcterms:W3CDTF">2004-12-19T16:34:32Z</dcterms:modified>
  <cp:revision>3</cp:revision>
  <dc:subject/>
  <dc:title>Outlander Spices</dc:title>
</cp:coreProperties>
</file>