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720" y="-36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rcRect l="0" t="0" r="0" b="251"/>
          <a:stretch/>
        </p:blipFill>
        <p:spPr>
          <a:xfrm>
            <a:off x="0" y="584280"/>
            <a:ext cx="1069920" cy="6273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152280" y="961920"/>
            <a:ext cx="729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se I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</a:rPr>
              <a:t>Visio Professional 2003: Advanced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ing technical layout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dvanced custom shape design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usiness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etwork diagrams and Web site mapping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oftware and database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emplat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tegrating Visio with other pro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17:50:32Z</dcterms:created>
  <dc:creator>Dan Quackenbush</dc:creator>
  <dc:description/>
  <dc:language>en-US</dc:language>
  <cp:lastModifiedBy>Catherine M Albano</cp:lastModifiedBy>
  <dcterms:modified xsi:type="dcterms:W3CDTF">2005-02-17T21:56:14Z</dcterms:modified>
  <cp:revision>18</cp:revision>
  <dc:subject/>
  <dc:title>PowerPoint Presentation</dc:title>
</cp:coreProperties>
</file>