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6D8-92D0-451A-B987-46AD81D5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D12-0BE6-4712-91DD-AC3378C8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B75-3309-4DFD-86AF-61665DC3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627-D6CE-4A50-AC46-0D271E7E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217-8071-4FF1-8CC4-5067DF1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4AF-58FF-4E69-9B31-3F9BDA3D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1DD-7FD7-43D4-A2DA-D28DA03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6CB-3855-4B5B-B1D8-497AEEF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0A0-302B-4DB8-80A6-C0D6E13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5CC-1ADA-4675-AAF0-C094572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592-5535-4E82-9F76-4D96866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E7B-3095-459A-A163-325A621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D93-81E5-494B-9132-85EDE488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8001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ur team of dedicated and efficient professionals has a focused plan in place and will ensure that Outlander Spices remains the market leader in quality sp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orch Bearers - Meet the people who make the many flavors of Outlander Spices reach your kit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09480" y="685800"/>
          <a:ext cx="79250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9250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8:42:19Z</dcterms:created>
  <dc:creator>Kwils</dc:creator>
  <dc:description/>
  <dc:language>en-US</dc:language>
  <cp:lastModifiedBy>Kwils</cp:lastModifiedBy>
  <dcterms:modified xsi:type="dcterms:W3CDTF">2004-12-20T19:03:59Z</dcterms:modified>
  <cp:revision>3</cp:revision>
  <dc:subject/>
  <dc:title>PowerPoint Presentation</dc:title>
</cp:coreProperties>
</file>