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0" t="0" r="0" b="251"/>
          <a:stretch/>
        </p:blipFill>
        <p:spPr>
          <a:xfrm>
            <a:off x="0" y="584280"/>
            <a:ext cx="1069920" cy="627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52280" y="961920"/>
            <a:ext cx="729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99"/>
                </a:solidFill>
                <a:latin typeface="Arial"/>
                <a:ea typeface="Times New Roman"/>
              </a:rPr>
              <a:t>Software and database diagrams </a:t>
            </a:r>
            <a:endParaRPr b="0" lang="en-US" sz="3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 mock software program based on the Windows XP interface and create a drawing of the physical architecture required for a program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 database model diagram and reverse engineer a table from an existing databas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ocumenting software syste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Database model diagrams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e 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a window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Software, Windows XP User Interfac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From the Windows and Dialogs stencil, drag the Blank form shape to the drawing pag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dd the required buttons to the title bar and other window components such as menu bars, toolbars, and scroll bar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a title for the window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reate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an enterprise application diagram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Software, Enterprise Applicatio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rag the shapes that represent physical components and place them on the document pag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rag the shapes that represent logical components and place them on the document pag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onnect the shapes, as required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a title for the shap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Documenting software syste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B: Database model diagra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 database model diagram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Database, Database Model Diagra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Database, Options, Document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database setting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From the Entity Relationship or Object Relational stencil, drag the Entity shape to the drawing pag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the properties of the entity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Add columns to the entity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Add data in the column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Add more entities as requir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the relationships between entitie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relationship between entiti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the Connector tool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Position the pointer over the parent table until the table is outlined with a red border, and then drag to the child table until the table is outlined with a red border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Double-click the connecting lin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primary key in the parent tabl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foreign key in the child tabl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Foreign Key Role Name text box, enter the role nam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The Reverse Engineer Wizar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8588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25" descr=""/>
          <p:cNvPicPr/>
          <p:nvPr/>
        </p:nvPicPr>
        <p:blipFill>
          <a:blip r:embed="rId2"/>
          <a:stretch/>
        </p:blipFill>
        <p:spPr>
          <a:xfrm>
            <a:off x="2176560" y="1633680"/>
            <a:ext cx="569412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d a mock software program based on the Windows XP interface and created a drawing of the physical architecture required for a program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reated a database model diagram and reverse engineered a table from an existing databa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7:50:32Z</dcterms:created>
  <dc:creator>Dan Quackenbush</dc:creator>
  <dc:description/>
  <dc:language>en-US</dc:language>
  <cp:lastModifiedBy>Catherine M Albano</cp:lastModifiedBy>
  <dcterms:modified xsi:type="dcterms:W3CDTF">2005-02-17T22:30:26Z</dcterms:modified>
  <cp:revision>112</cp:revision>
  <dc:subject/>
  <dc:title>PowerPoint Presentation</dc:title>
</cp:coreProperties>
</file>