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25102-E6D8-4FA5-9A1D-85E8AF3D6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85CA-CB79-47A3-9A8A-7A8098A6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CB4F7-9DE5-4827-97E3-67CECC5EF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07E6-608B-4594-BDB5-F8DA8B02F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CEAE-A2D8-4418-8247-17F017890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068B6-0B2E-4921-AF1F-E27AE3FA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72737-83A5-4B0E-A7A9-B6257CA6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C228E-A06F-4303-AD27-DD373CE9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A5D9-0866-4691-B63D-E6CBAF8A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665EC-344C-4EF3-A7FF-11B177F86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7A7A-D1C7-4B61-AADB-C40F072C9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A8052-CF27-41FA-A3AB-6CB1B281D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9944-51CA-469F-A58B-1E7B23B55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utlander Spices</a:t>
            </a:r>
            <a:endParaRPr b="0" lang="en-US" sz="4400" spc="-1" strike="noStrike">
              <a:solidFill>
                <a:srgbClr val="000000"/>
              </a:solidFill>
              <a:latin typeface="Times New Roman"/>
            </a:endParaRPr>
          </a:p>
        </p:txBody>
      </p:sp>
      <p:pic>
        <p:nvPicPr>
          <p:cNvPr id="42" name="activity5" descr=""/>
          <p:cNvPicPr/>
          <p:nvPr/>
        </p:nvPicPr>
        <p:blipFill>
          <a:blip r:embed="rId1"/>
          <a:stretch/>
        </p:blipFill>
        <p:spPr>
          <a:xfrm>
            <a:off x="1219320" y="1828800"/>
            <a:ext cx="7238880" cy="2057400"/>
          </a:xfrm>
          <a:prstGeom prst="rect">
            <a:avLst/>
          </a:prstGeom>
          <a:ln w="0">
            <a:noFill/>
          </a:ln>
        </p:spPr>
      </p:pic>
      <p:sp>
        <p:nvSpPr>
          <p:cNvPr id="43" name=""/>
          <p:cNvSpPr/>
          <p:nvPr/>
        </p:nvSpPr>
        <p:spPr>
          <a:xfrm>
            <a:off x="3610800" y="4172040"/>
            <a:ext cx="234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piced 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4" name=""/>
          <p:cNvSpPr/>
          <p:nvPr/>
        </p:nvSpPr>
        <p:spPr>
          <a:xfrm>
            <a:off x="457200" y="822240"/>
            <a:ext cx="8153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utlander Spices opened its doors in 1989 and has since become one of the largest spice companies in the worl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 provide the highest quality spices and select gourmet foods from all over the worl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 serve restaurants and retailers throughout the United States and Euro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ustomers from any corner of the world can purchase our products directly from our Web si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 currently have twenty kiosk locations within gourmet grocery stores on the West Coast, and we plan to expand our kiosk operations into stores in the Midwest and East Coast over the next two year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17:18:12Z</dcterms:created>
  <dc:creator>Kwils</dc:creator>
  <dc:description/>
  <dc:language>en-US</dc:language>
  <cp:lastModifiedBy>Kwils</cp:lastModifiedBy>
  <dcterms:modified xsi:type="dcterms:W3CDTF">2004-12-19T17:22:56Z</dcterms:modified>
  <cp:revision>5</cp:revision>
  <dc:subject/>
  <dc:title>Outlander Spices</dc:title>
</cp:coreProperties>
</file>