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251"/>
          <a:stretch/>
        </p:blipFill>
        <p:spPr>
          <a:xfrm>
            <a:off x="0" y="584280"/>
            <a:ext cx="1069920" cy="627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52280" y="961920"/>
            <a:ext cx="729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Network diagrams and Web site mapping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nd customize a detailed network diagram, and generate reports on network data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Generate Web site maps and a report of broken links on a Web sit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Generate a report of Web site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en the Web site map for which you want to generate a repor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Web Site Map, Repor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Web Site Map All Links for a complete list of links in the memory mode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Ru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Run Report dialog box, specify the path to save the repor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and customized a detailed network diagram, and generated reports on network data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Generated Web site maps and a report of broken links on a Web si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etailed networ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eb site map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A detailed network diagram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" descr=""/>
          <p:cNvPicPr/>
          <p:nvPr/>
        </p:nvPicPr>
        <p:blipFill>
          <a:blip r:embed="rId2"/>
          <a:stretch/>
        </p:blipFill>
        <p:spPr>
          <a:xfrm>
            <a:off x="1911240" y="1344600"/>
            <a:ext cx="6367680" cy="46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Customize a network diagram by: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ding a title blo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ing the Custom Properties optio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ing the Label Shapes add-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ing hyperlinks to shapes a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aving network diagrams as Web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ing legend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unning a repor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Tools, Repor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Reports dialog box, select the report you want to ru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Ru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Run Report dialog box, select the required report forma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Detailed network diagram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eb site ma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he Generate Site Map dialog box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U4G5" descr=""/>
          <p:cNvPicPr/>
          <p:nvPr/>
        </p:nvPicPr>
        <p:blipFill>
          <a:blip r:embed="rId2"/>
          <a:stretch/>
        </p:blipFill>
        <p:spPr>
          <a:xfrm>
            <a:off x="2273400" y="1612800"/>
            <a:ext cx="548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roken lin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Reasons for broken link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ite Not Found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ccess Denied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Password Required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ite Timed Out error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identify broken links, brows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ist window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Filter window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List Window and Filter Window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ist-Zoom Out" descr=""/>
          <p:cNvPicPr/>
          <p:nvPr/>
        </p:nvPicPr>
        <p:blipFill>
          <a:blip r:embed="rId2"/>
          <a:stretch/>
        </p:blipFill>
        <p:spPr>
          <a:xfrm>
            <a:off x="2576520" y="880920"/>
            <a:ext cx="4282920" cy="2754360"/>
          </a:xfrm>
          <a:prstGeom prst="rect">
            <a:avLst/>
          </a:prstGeom>
          <a:ln w="0">
            <a:noFill/>
          </a:ln>
        </p:spPr>
      </p:pic>
      <p:pic>
        <p:nvPicPr>
          <p:cNvPr id="61" name="filter" descr=""/>
          <p:cNvPicPr/>
          <p:nvPr/>
        </p:nvPicPr>
        <p:blipFill>
          <a:blip r:embed="rId3"/>
          <a:stretch/>
        </p:blipFill>
        <p:spPr>
          <a:xfrm>
            <a:off x="2583000" y="3817800"/>
            <a:ext cx="42782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Catherine M Albano</cp:lastModifiedBy>
  <dcterms:modified xsi:type="dcterms:W3CDTF">2005-02-17T22:27:30Z</dcterms:modified>
  <cp:revision>107</cp:revision>
  <dc:subject/>
  <dc:title>PowerPoint Presentation</dc:title>
</cp:coreProperties>
</file>