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9129-172B-4818-8B7C-D8B736C1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DA88-7444-436A-8D61-03044D7A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E84C-ACEB-44DF-8235-882BB758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EFEE-706E-4EA8-A1B4-702A20C4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D12-9FD2-475F-8505-3F61DCEA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B9A-4DE4-4373-9EB0-4CB160D4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35D-D99C-4AE8-AFED-E4504DF5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18D-2BA9-4CC2-82ED-308F9028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0D36-5D12-4995-AE68-67B4F0E3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EE29-C079-4CF4-A0E3-9E976D26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6F48-4E88-4F07-B20C-F70CF5DC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B06B-D723-4155-B274-36D72B9B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5C96-17FE-4801-9452-7962CB21E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ander Sp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our sp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86040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or years we've been involved in food service and manufacturing where the finished product must be consistent week in and week 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ll major food manufacturers buy their spices from premier import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o do we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very Outlander spice is of premium qua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Outlander spices not only excel in quality, flavor, and freshness but also are priced much lower than spices in retail s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08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040" y="240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828800" y="2286000"/>
          <a:ext cx="33019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86000"/>
                    <a:ext cx="33019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16:30:27Z</dcterms:created>
  <dc:creator>Kwils</dc:creator>
  <dc:description/>
  <dc:language>en-US</dc:language>
  <cp:lastModifiedBy>Student Participant</cp:lastModifiedBy>
  <dcterms:modified xsi:type="dcterms:W3CDTF">2005-02-24T03:30:23Z</dcterms:modified>
  <cp:revision>4</cp:revision>
  <dc:subject/>
  <dc:title>Outlander Spices</dc:title>
</cp:coreProperties>
</file>