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%20Slide%20Graphic%204%20150dpi%20s80%20c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Visio 2003 Professional: Basi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xploring the Visio environ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wing tool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ing basic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ormatting drawing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orking with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ing network and brainstorm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n introduction to advanced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2:41:01Z</dcterms:created>
  <dc:creator>K.M.Subhash</dc:creator>
  <dc:description/>
  <dc:language>en-US</dc:language>
  <cp:lastModifiedBy>builder</cp:lastModifiedBy>
  <dcterms:modified xsi:type="dcterms:W3CDTF">2004-03-22T12:38:55Z</dcterms:modified>
  <cp:revision>6</cp:revision>
  <dc:subject/>
  <dc:title>Office 2003: Web Components and Collaboration</dc:title>
</cp:coreProperties>
</file>