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ting drawing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various text formatting op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shapes and lin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Formatting basic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Formatting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Formatting shapes and lin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hape format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format shapes by changing the fill pattern and col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fill pattern adds color and, in some cases, a pattern to the background of a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lso change the border type and color, and add a drop shadow to a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ll pattern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are four basic fill pattern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thered do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radi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atc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Format Shape toolbar or the Fill dialog box to apply a fill pattern to a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Format Painte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Painter copies all the formats from one shape and applies them to oth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ine format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line has five attribute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egin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d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ne typ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hange the attributes of a line by using the line buttons on the Standard and Format Shape toolbars or by using the Line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Line dialog box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Line dialog box to apply multiple changes to a line at one tim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various text formatting op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ted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ted shapes a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ting basic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Formatting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Formatting shapes and lin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ting basic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ting includes changing colors, adding shadows, changing line properties, and changing the size and type of fo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Formatting toolbar provides shortcuts to formatting command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format all the text in a block or format an individual word or words to draw attention to the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styl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pply a text sty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lect the shape or text to which you want to apply the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 the Formatting toolbar, click the Style drop-down arro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rom the Style list, choose the desired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Text dialog box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dialog box has six tab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n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agraph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xt Block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abs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ulle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Formatting basic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Formatting text block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Formatting shapes and lin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ting text block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blocks are shapes without bor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format text blocks, you work with two component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text within the block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ormat of the text block shap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format a text block’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ignmen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rgin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xt backgroun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ragraph formatting in text blocks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pply paragraph formatting such as indents, bullets, horizontal alignment, and spacing to a text bloc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Paragraph tab of the Text dialog box has three formatting option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rizontal alignmen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dent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acing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ulle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Bullets tab of the Text dialog box to apply predefined bullets to your text bloc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1:24:26Z</dcterms:modified>
  <cp:revision>16</cp:revision>
  <dc:subject/>
  <dc:title>Exploring the Visio environment </dc:title>
</cp:coreProperties>
</file>