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ing basic diagrams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n a flowch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master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nect shapes in a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dynamic connect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basic text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an organization ch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nection line adjustment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ometimes you might need to change the location of a connection or adjust the connection li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do so, drag the glue handles and control hand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utomatic connectio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 the shape to which you want to redirect the connection; the border of the shape appears red when you point to 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ag to the shape you want to connect to in the drawing are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nector shap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ome stencils have special connector shapes that work especially well with the master shapes on that stenci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variety of connector shapes can also be found on the Connector stenci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Planning your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Master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onnecting shap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ynamic connecto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E: 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F: Organization ch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ynamic connecto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181160"/>
            <a:ext cx="762012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special type of connector that adjusts its connection as a shape is mov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mains glued to a shape but relocates to a more suitable connection point based on the shape’s new loc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6858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nector rout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123560"/>
            <a:ext cx="76201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route freely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54000" indent="-380880">
              <a:spcBef>
                <a:spcPts val="601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onnector can reroute around shapes when neede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route as Need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54000" indent="-380880">
              <a:spcBef>
                <a:spcPts val="601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onnector should reroute when a shape is placed on 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route on Crossov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54000" indent="-380880">
              <a:spcBef>
                <a:spcPts val="601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onnector should reroute when the connector crosses a shap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ever Rerou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54000" indent="-380880">
              <a:spcBef>
                <a:spcPts val="601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onnector will never rerou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plitting a connector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split a single connector into two connectors, creating a for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connects a single shape to multiple shapes without adding new connectors from a stenci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split connectors, use the Ctrl ke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Planning your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Master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onnecting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Dynamic connector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E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F: Organization char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xt block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xt in Visio is contained in a text blo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xt blocks are included with shapes, connector shapes, or any object containing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ike objects, text blocks can be resized, formatted, and rotate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aragraph text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 larger amounts of text, you can create a text block to avoid the problem of text running into shapes on your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create a text block, select the Text tool and drag diagonally to create the blo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nning your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Master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onnecting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Dynamic connecto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E: 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F: Organization ch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xt and shap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ach shape has a text block to hold and display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us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ext tool and the keyboar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ointer tool and the keyboar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xt and lin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add text to lines the same way as you add text  to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vantages of adding text to lines as part of the shape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text moves with the lin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the line length is changed, the text changes as wel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xt block adjustment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Text tool or the Text Block tool to adjust or relocate a text blo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either tool to rotate and resize text bloc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you use the Text tool to select a text block, you immediately enter text mode; press Esc to end text m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you select a text block by using the Text Block tool, you select the text block, not the text contained within the blo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xt block rotatio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rotate text blocks like any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you select a text block, a round rotation handle appears outside the blo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ag this handle to rotate the text blo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F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Planning your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Master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onnecting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Dynamic connecto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E: 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F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rganization ch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rganization char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rganization charts show superior-subordinate relationships, reporting hierarchies, or inter-department links within an organiz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Organization Chart template to create an organization ch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68580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difying organization chart layou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1238040"/>
            <a:ext cx="762012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ayout defines the way in which shapes are arrange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might need to change the layout of the shapes to change the hierarchy in an organization ch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Organization Chart toolbar contains different layout styles, such as horizontal and vertical layou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plan a flowch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use master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nected shapes in a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dynamic connect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basic text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d an organization ch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sign tip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ffective design begins with analyzing the aud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sider the following question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o will use your diagram?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y will they use it?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information is most important to them?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sider the design and purpose of your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Planning your diagram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ster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onnecting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Dynamic connecto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E: 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F: Organization ch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aster shap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basic building blocks of any diagram or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ach shape contains three basic component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symbo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text bloc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nection poin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tamp tool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rom the stencil, select the desired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ctivate the Stamp too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he drawing page to place the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Planning your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Master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necting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Dynamic connecto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E: 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F: Organization char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Connector tool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to manually connect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ag from a connection point from one shape to the connection point on the shape to which you want to conn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Connect Shapes command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to make straight connections between two or more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member to select the shapes in the order of the process flo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builder</cp:lastModifiedBy>
  <dcterms:modified xsi:type="dcterms:W3CDTF">2004-03-22T11:07:48Z</dcterms:modified>
  <cp:revision>21</cp:revision>
  <dc:subject/>
  <dc:title>Exploring the Visio environment </dc:title>
</cp:coreProperties>
</file>