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introduction to advanced feature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advanced connection and layout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t custom properties for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nd modify property repo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fining custom properti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ustom properties are data fields that you use to track information about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define these data fields by using the Custom Propertie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ser-defined custom properties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create user-defined custom property se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ustom property sets can be applied to multipl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lso create custom properties for an individual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sing custom properties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you’ve created a new custom property set, you can apply the properties to the shapes in your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new property set will be added to the existing property set for the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Advanced layout and connection techniq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ustom proper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Repor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rt cre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include the data from custom properties in a 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lso modify a report, format report shapes, and update a report as data chan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reate a report, use the Report Definition Wiza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rt gener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un a report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hoose Tools, Repor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lect the report you want to ru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rts and updat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update a report to change the property values or add new proper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you’ve added new shapes or added a new property, you’ll need to modify the report before running it ag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update a report, right-click the report and choose Update Repo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rt shape format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format a Visio Table Report shape, use the Formatting toolba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format a cell, you must first select the cell by clicking 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rt modific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Report Definition Wizard to  modify a repo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advanced connection and layout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set custom properties for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and modified property repo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vanced layout and connection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ustom proper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Report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uides and gluing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dd guides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uides are non-printing lines that divide a drawing page visually to help you accurately place shapes and objects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access guides through the rule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uides remain hidden until placed on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Guide adjustment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uides provide a way to group and position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cause shapes are glued to the guide, moving a guide also moves th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New connection points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dd connection points to shapes if you need additional places to connect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dd new connection points, use the Connection Point to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eposition connection points, drag them with the Connection Point too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elect by Type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elect by Type command to select objects based on their ty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is helpful when you have a complex drawing and need to select multiple objects of the same type for edi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use this command to select shapes, groups, guides, and other drawing page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hape connection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 shapes to the new connection points by using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nector sha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nector too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rawing lin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nap &amp; Glu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Snap feature increases the accuracy of placing objects and shapes by forcing them to align with the grid lines and the rul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default, you use connection points to glu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modify the Glue settings to use other parts of selected shapes as connection poi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nap &amp; Glue dialog box for setting Snap &amp; Glue properti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Advanced layout and connection techniq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Custom properti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Repor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2:29:21Z</dcterms:modified>
  <cp:revision>18</cp:revision>
  <dc:subject/>
  <dc:title>Exploring the Visio environment </dc:title>
</cp:coreProperties>
</file>