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33720" y="-36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615960"/>
            <a:ext cx="1060560" cy="6242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66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66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161640" y="971280"/>
            <a:ext cx="729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urse IL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13372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20760" y="19008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reating network and brainstorming diagrams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31560" y="1269720"/>
            <a:ext cx="7683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nit objectiv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reate network diagram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reate rack and directory service diagram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reate brainstorming diagram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Times New Roman"/>
              </a:rPr>
              <a:t>Brainstorming diagram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sed to develop new ideas, solve logical problems, and show relationships between various topic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Visio provides a Brainstorming menu to create and manage brainstorming diagram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Using brainstorming data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You can export the data stored in a brainstorming diagram to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1106640" indent="-533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 Microsoft Word fil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1106640" indent="-533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 Microsoft Excel fil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1106640" indent="-533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n XML fil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XML is a widely accepted standard for transferring data across applications and platform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Using XML files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Visio provides tools to create a brainstorming diagram from an XML fil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upport for XML files in Visio ensures that data can be exchanged between Visio and other application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Times New Roman"/>
              </a:rPr>
              <a:t>Unit summary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reated network diagram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reated rack and directory service diagram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reated brainstorming diagram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A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A: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etwork diagramming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B: Rack and directory service diagram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C: Brainstorming tool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etworking shape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You can create complex network-layout diagrams for documentation and visualization purpos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Visio provides industry-standard topology shapes to create network diagram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onnection handle extensions 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 create new connection handles, drag an existing connection handle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ext blocks and network shapes 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 relocate the text in a shape, use the yellow control handle on the shap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 move a text block interactively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1106640" indent="-533520"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elect the shape for which you want to move the tex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1106640" indent="-533520"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Drag the yellow control handle to the new text locatio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B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A: Network diagramming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B: Rack and directory service diagrams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C: Brainstorming tool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Rack diagrams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 rack system is a collection of hardware devices used in a computer network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etwork administrators use rack diagrams to document and understand the configuration of a rack syste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Visio provides network equipment shapes that meet industry-standard measurement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Directory service diagrams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sed to design new network policies and guidelines before establishing an organization’s network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Visio provides three basic directory service templates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ovell Directory Servic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LDAP Directory Servic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ctive Directory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C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A: Network diagramming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B: Rack and directory service diagram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C: Brainstorming tool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11:10:19Z</dcterms:created>
  <dc:creator>ff</dc:creator>
  <dc:description/>
  <dc:language>en-US</dc:language>
  <cp:lastModifiedBy>builder</cp:lastModifiedBy>
  <dcterms:modified xsi:type="dcterms:W3CDTF">2004-03-22T11:45:33Z</dcterms:modified>
  <cp:revision>14</cp:revision>
  <dc:subject/>
  <dc:title>Exploring the Visio environment </dc:title>
</cp:coreProperties>
</file>