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im Hill" initials="J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01T08:41:19.093000000" idx="1">
    <p:pos x="10" y="10"/>
    <p:text>Please review this presentation, and make suggested changes.  Thanks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FC4-F0DD-47B8-A326-EE17117E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CAF-2635-49DB-A261-99542E29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5A7-AA60-4CCC-93A8-4B6DA5AF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37B-B28F-40C1-B2F2-BFBC50AA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5AFF-C585-4C3E-83D4-E72C7233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E213-1A9D-40A4-AB3D-25BB151D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F172-2D5D-42E4-BB09-5A74A8B6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E97F-16EA-46BB-A717-E1148644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5458-0F8A-4621-A2A7-EF70545E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203B-BD9F-49BB-97FD-2AA843B3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7B26-B1FE-4C84-981C-B7C29381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329-4412-4639-8990-40C2BDD1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D4CA-2B9A-4B8C-996D-3A747A5C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D73C-7EB3-41DC-8E55-7CB45E78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CFA8-86C2-455B-8B46-0D51444B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67C1-C312-49FA-8A54-9F01F109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BCD0-9D7F-4C28-9080-274BFF7A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CFB-AFAF-4EEE-995E-E12785D0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E6F-C523-46CF-AA9E-938BAC4F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24F-51E5-4D53-9A7F-51530A38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C3A-F92A-46D4-9677-AC53C0DB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F52-A481-4D4E-AF71-E8DC9567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19B-21C6-4A61-A22D-7E5317F2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7E0-6B92-4A09-8B53-42AFFD49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2CD9-1C03-41DA-BD31-F38C604EE2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D9A8-9122-4DAB-8BD5-10BACE0A4C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038120"/>
            <a:ext cx="213372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2341440"/>
          <a:ext cx="65534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41440"/>
                    <a:ext cx="6553440" cy="3907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endance of 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413080"/>
          <a:ext cx="777240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3080"/>
                    <a:ext cx="7772400" cy="375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York Off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52560" y="2362320"/>
            <a:ext cx="7238160" cy="3831840"/>
            <a:chOff x="952560" y="2362320"/>
            <a:chExt cx="7238160" cy="3831840"/>
          </a:xfrm>
        </p:grpSpPr>
        <p:cxnSp>
          <p:nvCxnSpPr>
            <p:cNvPr id="115" name="_s12310"/>
            <p:cNvCxnSpPr>
              <a:stCxn id="116" idx="0"/>
              <a:endCxn id="117" idx="2"/>
            </p:cNvCxnSpPr>
            <p:nvPr/>
          </p:nvCxnSpPr>
          <p:spPr>
            <a:xfrm flipV="1">
              <a:off x="698472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2308"/>
            <p:cNvCxnSpPr>
              <a:stCxn id="119" idx="0"/>
              <a:endCxn id="120" idx="2"/>
            </p:cNvCxnSpPr>
            <p:nvPr/>
          </p:nvCxnSpPr>
          <p:spPr>
            <a:xfrm flipV="1">
              <a:off x="376740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2306"/>
            <p:cNvCxnSpPr>
              <a:stCxn id="122" idx="3"/>
              <a:endCxn id="117" idx="2"/>
            </p:cNvCxnSpPr>
            <p:nvPr/>
          </p:nvCxnSpPr>
          <p:spPr>
            <a:xfrm flipV="1">
              <a:off x="658188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2304"/>
            <p:cNvCxnSpPr>
              <a:stCxn id="124" idx="3"/>
              <a:endCxn id="120" idx="2"/>
            </p:cNvCxnSpPr>
            <p:nvPr/>
          </p:nvCxnSpPr>
          <p:spPr>
            <a:xfrm flipV="1">
              <a:off x="336492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2301"/>
            <p:cNvCxnSpPr>
              <a:stCxn id="117" idx="0"/>
              <a:endCxn id="126" idx="2"/>
            </p:cNvCxnSpPr>
            <p:nvPr/>
          </p:nvCxnSpPr>
          <p:spPr>
            <a:xfrm flipV="1" rot="16200000">
              <a:off x="6005520" y="242784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2300"/>
            <p:cNvCxnSpPr>
              <a:stCxn id="120" idx="0"/>
              <a:endCxn id="126" idx="2"/>
            </p:cNvCxnSpPr>
            <p:nvPr/>
          </p:nvCxnSpPr>
          <p:spPr>
            <a:xfrm flipH="1" flipV="1" rot="5400000">
              <a:off x="4397400" y="242820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12296"/>
            <p:cNvSpPr/>
            <p:nvPr/>
          </p:nvSpPr>
          <p:spPr>
            <a:xfrm>
              <a:off x="4169520" y="236232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y Mo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297"/>
            <p:cNvSpPr/>
            <p:nvPr/>
          </p:nvSpPr>
          <p:spPr>
            <a:xfrm>
              <a:off x="256104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ave Dani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S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298"/>
            <p:cNvSpPr/>
            <p:nvPr/>
          </p:nvSpPr>
          <p:spPr>
            <a:xfrm>
              <a:off x="577800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onnie Br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Mark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2303"/>
            <p:cNvSpPr/>
            <p:nvPr/>
          </p:nvSpPr>
          <p:spPr>
            <a:xfrm>
              <a:off x="95256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ly Sha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es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2305"/>
            <p:cNvSpPr/>
            <p:nvPr/>
          </p:nvSpPr>
          <p:spPr>
            <a:xfrm>
              <a:off x="416952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Willy W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keting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2307"/>
            <p:cNvSpPr/>
            <p:nvPr/>
          </p:nvSpPr>
          <p:spPr>
            <a:xfrm>
              <a:off x="256104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Jerry J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2309"/>
            <p:cNvSpPr/>
            <p:nvPr/>
          </p:nvSpPr>
          <p:spPr>
            <a:xfrm>
              <a:off x="577800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nn Ad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0880" y="685800"/>
            <a:ext cx="45817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als for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Y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3150720" y="4046400"/>
            <a:ext cx="4608000" cy="1556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pgraded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dditional Course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w Training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Jim Hill</cp:lastModifiedBy>
  <dcterms:modified xsi:type="dcterms:W3CDTF">2004-03-01T14:00:07Z</dcterms:modified>
  <cp:revision>35</cp:revision>
  <dc:subject/>
  <dc:title>Annual Report</dc:title>
</cp:coreProperties>
</file>