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279-AA42-4518-B859-4FD74234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D06-C39F-4325-93B6-7343C0D7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12D-1185-4091-B538-F3B34265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16C-ABAF-41FD-B455-296BC309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65E2-10E6-4B85-B4ED-A048B7CB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1BDE-2129-4CEE-ADD1-546349E3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346-5DC3-4F42-834A-4F011FD7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56BD-6904-4F85-AC99-50358FE6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C929-5BA4-4BA1-A99F-489A90E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362E-369D-4375-A214-673B525C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2F62-BD8D-42A3-9983-8990A50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2F8-3BB0-4041-8893-5749CE42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286-0BFF-4C79-B5F5-4A03240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CED-9588-4F43-B5C8-93D710B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41A6-5D1F-41C9-8BE5-EE0B5067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9668-643C-4526-B76A-9E4C9BCD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EB90-0BE2-4C4E-8918-2C5B1F5C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9DA-C851-4AF2-91E5-BAB87AE2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F07-B257-48E2-A49D-32C84605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B39-201D-4754-A007-D7ED6ACD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085-2176-43A6-ABEF-59B9CAFF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ED8-7B97-4ED8-ACF0-8B1E0CF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C33-B846-4A75-9BAE-B23873C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57E-92F2-4FBA-A89A-5DFFFA2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BB4-E724-4510-9E1F-A02472A53F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83BE-A200-4E66-99C1-2FCF1D99DF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46Z</dcterms:modified>
  <cp:revision>35</cp:revision>
  <dc:subject/>
  <dc:title>ABC Computer Education Co.</dc:title>
</cp:coreProperties>
</file>