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im Hill" initials="J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01T08:41:19.093000000" idx="1">
    <p:pos x="10" y="10"/>
    <p:text>Please review this presentation, and make suggested changes.  Thanks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5F3-D8CF-4F04-BA80-645A9FB4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136-4861-4046-A20E-508FAE2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6A6-854F-4799-AC7B-7B7BE87E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04A-95F2-49A3-85CC-E1B0AAA6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4ED-B90B-4937-931E-8091719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DB8C-7DD5-4EF3-B1A6-CE6FDBE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1FBF-BE17-47CB-9622-5404EC0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07C-A776-4995-8839-6A685B50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9B7C-AB9E-449D-AFD5-994F6A1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24A-AD71-415E-84FB-91A20AC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CD8-FC4A-45BB-91A1-127CF03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04D-C41E-4661-BB86-E3AC5B7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24DB-3091-4ADA-85D3-4900696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7A14-0F8D-4CF3-A8B1-7CE372D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AD3C-9EDD-437D-96C7-1EACDD5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D41-D145-4BF4-8A89-F74D40D2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47C6-DC48-4E8E-A5B1-B94273B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5E9-9C92-4B83-B68D-092535DD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52A-5647-4325-93D0-889AA63D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472-FB21-48CF-8963-7149F87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418-FCD4-4C1C-9F88-7534254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A6F-C05A-4790-BC52-153283C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863-81AC-4A9D-8DC7-7141AB1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D3A-FF09-49BE-8186-8C86104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DAAE-2C88-49F4-AB69-E1C50057A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0698-F222-473C-A55E-14EA816662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nual Re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35920"/>
            <a:ext cx="21337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6" name="_s12310"/>
            <p:cNvCxnSpPr>
              <a:stCxn id="117" idx="0"/>
              <a:endCxn id="118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2308"/>
            <p:cNvCxnSpPr>
              <a:stCxn id="120" idx="0"/>
              <a:endCxn id="121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6"/>
            <p:cNvCxnSpPr>
              <a:stCxn id="123" idx="3"/>
              <a:endCxn id="118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4"/>
            <p:cNvCxnSpPr>
              <a:stCxn id="125" idx="3"/>
              <a:endCxn id="121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1"/>
            <p:cNvCxnSpPr>
              <a:stCxn id="118" idx="0"/>
              <a:endCxn id="127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300"/>
            <p:cNvCxnSpPr>
              <a:stCxn id="121" idx="0"/>
              <a:endCxn id="127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Calvin Davis</cp:lastModifiedBy>
  <dcterms:modified xsi:type="dcterms:W3CDTF">2004-03-01T14:00:27Z</dcterms:modified>
  <cp:revision>38</cp:revision>
  <dc:subject/>
  <dc:title>Annual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54608430</vt:r8>
  </property>
</Properties>
</file>