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1" name="Sandra Taylor" initials="ST" lastIdx="1" clrIdx="1"/>
  <p:cmAuthor id="0" name="Jim Hill" initials="JH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<Relationship Id="rId12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4-03-01T08:41:19.093000000" idx="1">
    <p:pos x="10" y="10"/>
    <p:text>Please review this presentation, and make suggested changes.  Thanks.</p:text>
  </p:cm>
  <p:cm authorId="1" dt="2004-03-01T08:50:32.968000000" idx="1">
    <p:pos x="106" y="106"/>
    <p:text>Adding a textured background to slides would enhance the overall presentation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EAA6-A96D-4B21-81E8-36C110B44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8547-3F8E-4D35-B152-5B0B60B1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EFF2-3187-41A1-9E86-E0C920929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1C0E-206E-42F3-AD27-D129BC94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9BE5-6A76-4CBA-9C1E-70B8775ED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C743-2BCC-440A-9C0D-3ABDD089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3778-A44B-4356-9152-1C21C648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F35B-5C6A-437A-B868-BF13519A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B2B3-7323-4335-A000-C0965798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A4F4-7EE2-490F-B47E-8A94280F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8C90-320F-4EC4-AE40-96DFA472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676E-8D09-4B7F-9775-224E01D3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66EC-3A89-4927-BDCA-0A428915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DC30-5E6F-4D5F-9A91-092FC506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C99F-ADB8-4342-93DB-E02334FE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C801-2FB5-482A-9FB6-D2FBACE83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0F0D-2FF8-438F-9EDE-67E62D208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E1C6-2659-4F61-8402-FB3C5A44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F510-9BAE-49F1-8DB6-DD9458BD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6F83-94A8-4470-B735-61271925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A887-CCD2-40B9-B803-2EBC834B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34C1-2B43-47DE-A15C-E4AB1B9D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D7C8-AE51-4989-B645-6F91F9D0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2A6D-334F-447D-9D56-E24D7786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C4FC-01C5-4418-9C73-38586FEDC4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1676520"/>
            <a:ext cx="9009000" cy="1052280"/>
            <a:chOff x="0" y="1676520"/>
            <a:chExt cx="9009000" cy="105228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1784160"/>
              <a:ext cx="711360" cy="474480"/>
              <a:chOff x="290520" y="1784160"/>
              <a:chExt cx="711360" cy="47448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178416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17841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206440"/>
              <a:ext cx="737640" cy="474480"/>
              <a:chOff x="414360" y="2206440"/>
              <a:chExt cx="737640" cy="47448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20644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2064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1333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167652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24976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3E64-8921-46A5-970E-9D01FF1898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C Computer Education Co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nual Re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354480"/>
            <a:ext cx="3124080" cy="2970000"/>
          </a:xfrm>
          <a:prstGeom prst="star5">
            <a:avLst/>
          </a:prstGeom>
          <a:solidFill>
            <a:srgbClr val="ff0000"/>
          </a:solidFill>
          <a:ln w="0">
            <a:noFill/>
          </a:ln>
          <a:effectLst>
            <a:outerShdw dist="107932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ps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in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ghlights of the Ye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ord increase in course attendance during each quar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new Microsoft courses added to the curricul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York office reorganized to better serve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urse Attendance by Reg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Eastern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8,9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iladelphi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,3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12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s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,5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Midwest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cag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4,6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neapol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5,8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12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. Lou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,4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Western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 Ange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6,5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n Dieg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,39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125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l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,7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4038120"/>
            <a:ext cx="2133720" cy="916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 25% increase in attendance over last yea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w Cour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95280" y="2341440"/>
          <a:ext cx="6553440" cy="390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41440"/>
                    <a:ext cx="6553440" cy="39070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43570" dir="2700000" blurRad="0" rotWithShape="0">
                      <a:srgbClr val="1c1c1c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ttendance of New Cour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2413080"/>
          <a:ext cx="7772400" cy="375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13080"/>
                    <a:ext cx="7772400" cy="3759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43570" dir="2700000" blurRad="0" rotWithShape="0">
                      <a:srgbClr val="969696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w York Off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52560" y="2362320"/>
            <a:ext cx="7238160" cy="3831840"/>
            <a:chOff x="952560" y="2362320"/>
            <a:chExt cx="7238160" cy="3831840"/>
          </a:xfrm>
        </p:grpSpPr>
        <p:cxnSp>
          <p:nvCxnSpPr>
            <p:cNvPr id="116" name="_s12310"/>
            <p:cNvCxnSpPr>
              <a:stCxn id="117" idx="0"/>
              <a:endCxn id="118" idx="2"/>
            </p:cNvCxnSpPr>
            <p:nvPr/>
          </p:nvCxnSpPr>
          <p:spPr>
            <a:xfrm flipV="1">
              <a:off x="6984720" y="4103640"/>
              <a:ext cx="3600" cy="1393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12308"/>
            <p:cNvCxnSpPr>
              <a:stCxn id="120" idx="0"/>
              <a:endCxn id="121" idx="2"/>
            </p:cNvCxnSpPr>
            <p:nvPr/>
          </p:nvCxnSpPr>
          <p:spPr>
            <a:xfrm flipV="1">
              <a:off x="3767400" y="4103640"/>
              <a:ext cx="3600" cy="1393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12306"/>
            <p:cNvCxnSpPr>
              <a:stCxn id="123" idx="3"/>
              <a:endCxn id="118" idx="2"/>
            </p:cNvCxnSpPr>
            <p:nvPr/>
          </p:nvCxnSpPr>
          <p:spPr>
            <a:xfrm flipV="1">
              <a:off x="6581880" y="4103280"/>
              <a:ext cx="402840" cy="697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12304"/>
            <p:cNvCxnSpPr>
              <a:stCxn id="125" idx="3"/>
              <a:endCxn id="121" idx="2"/>
            </p:cNvCxnSpPr>
            <p:nvPr/>
          </p:nvCxnSpPr>
          <p:spPr>
            <a:xfrm flipV="1">
              <a:off x="3364920" y="4103280"/>
              <a:ext cx="402840" cy="697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12301"/>
            <p:cNvCxnSpPr>
              <a:stCxn id="118" idx="0"/>
              <a:endCxn id="127" idx="2"/>
            </p:cNvCxnSpPr>
            <p:nvPr/>
          </p:nvCxnSpPr>
          <p:spPr>
            <a:xfrm flipV="1" rot="16200000">
              <a:off x="6005520" y="2427840"/>
              <a:ext cx="348840" cy="1609200"/>
            </a:xfrm>
            <a:prstGeom prst="bentConnector3">
              <a:avLst>
                <a:gd name="adj1" fmla="val 304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12300"/>
            <p:cNvCxnSpPr>
              <a:stCxn id="121" idx="0"/>
              <a:endCxn id="127" idx="2"/>
            </p:cNvCxnSpPr>
            <p:nvPr/>
          </p:nvCxnSpPr>
          <p:spPr>
            <a:xfrm flipH="1" flipV="1" rot="5400000">
              <a:off x="4397400" y="2428200"/>
              <a:ext cx="348840" cy="1609200"/>
            </a:xfrm>
            <a:prstGeom prst="bentConnector3">
              <a:avLst>
                <a:gd name="adj1" fmla="val 304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7" name="_s12296"/>
            <p:cNvSpPr/>
            <p:nvPr/>
          </p:nvSpPr>
          <p:spPr>
            <a:xfrm>
              <a:off x="4169520" y="236232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Mary Mo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2297"/>
            <p:cNvSpPr/>
            <p:nvPr/>
          </p:nvSpPr>
          <p:spPr>
            <a:xfrm>
              <a:off x="2561040" y="340740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Dave Danie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VP - S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2298"/>
            <p:cNvSpPr/>
            <p:nvPr/>
          </p:nvSpPr>
          <p:spPr>
            <a:xfrm>
              <a:off x="5778000" y="340740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Bonnie Brow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VP - Marke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2303"/>
            <p:cNvSpPr/>
            <p:nvPr/>
          </p:nvSpPr>
          <p:spPr>
            <a:xfrm>
              <a:off x="952560" y="445248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ally Sha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ales Ass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2305"/>
            <p:cNvSpPr/>
            <p:nvPr/>
          </p:nvSpPr>
          <p:spPr>
            <a:xfrm>
              <a:off x="4169520" y="445248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Willy Wo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Marketing Ass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2307"/>
            <p:cNvSpPr/>
            <p:nvPr/>
          </p:nvSpPr>
          <p:spPr>
            <a:xfrm>
              <a:off x="2561040" y="549756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Jerry J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ecret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2309"/>
            <p:cNvSpPr/>
            <p:nvPr/>
          </p:nvSpPr>
          <p:spPr>
            <a:xfrm>
              <a:off x="5778000" y="549756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Ann Ad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ecret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80880" y="685800"/>
            <a:ext cx="458172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oals for t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ew Yea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0" name=""/>
          <p:cNvSpPr/>
          <p:nvPr/>
        </p:nvSpPr>
        <p:spPr>
          <a:xfrm>
            <a:off x="3150720" y="4046400"/>
            <a:ext cx="4608000" cy="15562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Upgraded Classro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dditional Course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ew Training C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21:00:22Z</dcterms:created>
  <dc:creator>Jim Hill</dc:creator>
  <dc:description/>
  <dc:language>en-US</dc:language>
  <cp:lastModifiedBy>Sandra Taylor</cp:lastModifiedBy>
  <dcterms:modified xsi:type="dcterms:W3CDTF">2004-03-01T14:00:49Z</dcterms:modified>
  <cp:revision>38</cp:revision>
  <dc:subject/>
  <dc:title>Annual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54608430</vt:r8>
  </property>
</Properties>
</file>