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00B-E816-42C7-B018-D4A9EC96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605-5825-4676-BE3A-AAEF99C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B27-FD31-43F7-9A26-F3981C23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331-9619-4E56-BFF6-B8F30B02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AC0-D05D-4121-A846-6D8B46C3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B23-244F-4265-92A1-21A18C5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92B-6959-41F9-88C0-F82BD2D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9699-85A5-432F-8A12-FB47CE5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5A56-A50C-4894-8636-F808FA2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721C-89BC-4999-AA8B-EB9476C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CEA4-F52D-4A71-9642-899342E1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C9A-4C37-4250-8545-C4383D5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780A-963F-413B-A483-7D03155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A26-528D-4C1E-8CEE-A0DB7F6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F949-8030-4108-963D-7EDED88D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F4FD-EE27-4E3E-97AF-3B9DB620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BE6-AB76-4759-973A-C512AB25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472-838C-45A1-BC0E-0353B80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387-1BE8-47B8-9D43-9CAE9ED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475-75D8-4D9F-A519-DA73D45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007-14A3-4CA4-9654-3CB6C9D7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FBF-F7C6-4F24-BD7B-CA34D989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5E7-5224-45A6-B798-0D961DD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4B0-9C64-4602-A182-94CA340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571-45EF-4821-BA2B-80ED64BBEA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5AA2-6E04-46F1-9C0C-C3F4E20744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24Z</dcterms:modified>
  <cp:revision>14</cp:revision>
  <dc:subject/>
  <dc:title>Worldwide Sales Summary</dc:title>
</cp:coreProperties>
</file>