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458E-07EC-4416-AF79-09FF5D6B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BF5A-A510-4C4D-BC39-8883A86C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09E4-C50C-4A11-A7AB-90248637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3065-5EEB-4CDA-9B1C-DEFE5AC9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84B4-D8B7-4DA1-BCAF-F5E73F6D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9DD7-3BC6-4D94-8A95-29F62572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A182-8E13-4257-98B9-3794F185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DBD8-82C3-4440-937A-2E5E6C84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75B5-098F-451F-8926-57358DB3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1403-CAD0-4859-8ECF-0294880C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4EE8-65FE-4E6F-896E-FE221D99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597F-7C09-4809-BB97-94890B46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EF5E-6E88-4B70-BEB0-9C513F07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F1A1-CD5A-467D-ADB3-ACE140CB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A91A-5DD0-4528-A294-A9C45534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FBEF-85FF-4DEB-B826-B3919904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3FE7-D718-4EA6-BFAD-9849A6EB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5713-4ABC-49FD-9BB6-48501DE0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82BB-CFDB-463D-93C6-04B71794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451F-8825-4E97-A26C-303B674B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C4EB-2F72-4A58-A4A9-288904F2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940D-AC09-4222-AF94-D57D067C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5A05-4E39-44AD-862C-6AC83D80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8260-9683-43C4-881C-18FF24FF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8469-761F-4CD4-8A1A-293DBF366A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1676520"/>
            <a:ext cx="9009000" cy="1052280"/>
            <a:chOff x="0" y="16765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1784160"/>
              <a:ext cx="711360" cy="474480"/>
              <a:chOff x="290520" y="17841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17841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17841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206440"/>
              <a:ext cx="737640" cy="474480"/>
              <a:chOff x="414360" y="22064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2064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2064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1333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16765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24976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C391-D3E4-4F7B-A83A-BAC81C3B3B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C Computer Education Co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ual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3354480"/>
            <a:ext cx="3124080" cy="2970000"/>
          </a:xfrm>
          <a:prstGeom prst="star5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in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ghlights of the Ye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rd increase in course attendance during each quar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new Microsoft courses added to the curricu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York office reorganized to better serve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rse Attendance by Reg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astern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8,9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iladelph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,3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s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,5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dwest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cag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4,6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neapol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,8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. Lou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,4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stern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 Ange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6,5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n Dieg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,3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l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,7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4038120"/>
            <a:ext cx="2133720" cy="916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25% increase in attendance over last ye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Cour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95280" y="2341440"/>
          <a:ext cx="6553440" cy="39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41440"/>
                    <a:ext cx="6553440" cy="39070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43570" dir="2700000" blurRad="0" rotWithShape="0">
                      <a:srgbClr val="1c1c1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tendance of New Cour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2413080"/>
          <a:ext cx="7772400" cy="375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13080"/>
                    <a:ext cx="7772400" cy="3759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43570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York Off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52560" y="2362320"/>
            <a:ext cx="7238160" cy="3831840"/>
            <a:chOff x="952560" y="2362320"/>
            <a:chExt cx="7238160" cy="3831840"/>
          </a:xfrm>
        </p:grpSpPr>
        <p:cxnSp>
          <p:nvCxnSpPr>
            <p:cNvPr id="115" name="_s12310"/>
            <p:cNvCxnSpPr>
              <a:stCxn id="116" idx="0"/>
              <a:endCxn id="117" idx="2"/>
            </p:cNvCxnSpPr>
            <p:nvPr/>
          </p:nvCxnSpPr>
          <p:spPr>
            <a:xfrm flipV="1">
              <a:off x="6984720" y="4103640"/>
              <a:ext cx="3600" cy="139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2308"/>
            <p:cNvCxnSpPr>
              <a:stCxn id="119" idx="0"/>
              <a:endCxn id="120" idx="2"/>
            </p:cNvCxnSpPr>
            <p:nvPr/>
          </p:nvCxnSpPr>
          <p:spPr>
            <a:xfrm flipV="1">
              <a:off x="3767400" y="4103640"/>
              <a:ext cx="3600" cy="139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12306"/>
            <p:cNvCxnSpPr>
              <a:stCxn id="122" idx="3"/>
              <a:endCxn id="117" idx="2"/>
            </p:cNvCxnSpPr>
            <p:nvPr/>
          </p:nvCxnSpPr>
          <p:spPr>
            <a:xfrm flipV="1">
              <a:off x="6581880" y="4103280"/>
              <a:ext cx="402840" cy="697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12304"/>
            <p:cNvCxnSpPr>
              <a:stCxn id="124" idx="3"/>
              <a:endCxn id="120" idx="2"/>
            </p:cNvCxnSpPr>
            <p:nvPr/>
          </p:nvCxnSpPr>
          <p:spPr>
            <a:xfrm flipV="1">
              <a:off x="3364920" y="4103280"/>
              <a:ext cx="402840" cy="697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2301"/>
            <p:cNvCxnSpPr>
              <a:stCxn id="117" idx="0"/>
              <a:endCxn id="126" idx="2"/>
            </p:cNvCxnSpPr>
            <p:nvPr/>
          </p:nvCxnSpPr>
          <p:spPr>
            <a:xfrm flipV="1" rot="16200000">
              <a:off x="6005520" y="2427840"/>
              <a:ext cx="348840" cy="1609200"/>
            </a:xfrm>
            <a:prstGeom prst="bentConnector3">
              <a:avLst>
                <a:gd name="adj1" fmla="val 304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2300"/>
            <p:cNvCxnSpPr>
              <a:stCxn id="120" idx="0"/>
              <a:endCxn id="126" idx="2"/>
            </p:cNvCxnSpPr>
            <p:nvPr/>
          </p:nvCxnSpPr>
          <p:spPr>
            <a:xfrm flipH="1" flipV="1" rot="5400000">
              <a:off x="4397400" y="2428200"/>
              <a:ext cx="348840" cy="1609200"/>
            </a:xfrm>
            <a:prstGeom prst="bentConnector3">
              <a:avLst>
                <a:gd name="adj1" fmla="val 304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6" name="_s12296"/>
            <p:cNvSpPr/>
            <p:nvPr/>
          </p:nvSpPr>
          <p:spPr>
            <a:xfrm>
              <a:off x="4169520" y="236232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ry Mo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2297"/>
            <p:cNvSpPr/>
            <p:nvPr/>
          </p:nvSpPr>
          <p:spPr>
            <a:xfrm>
              <a:off x="2561040" y="340740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ave Dani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VP - S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2298"/>
            <p:cNvSpPr/>
            <p:nvPr/>
          </p:nvSpPr>
          <p:spPr>
            <a:xfrm>
              <a:off x="5778000" y="340740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Bonnie Brow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VP - Mark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2303"/>
            <p:cNvSpPr/>
            <p:nvPr/>
          </p:nvSpPr>
          <p:spPr>
            <a:xfrm>
              <a:off x="952560" y="445248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ally Sha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ales Ass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2305"/>
            <p:cNvSpPr/>
            <p:nvPr/>
          </p:nvSpPr>
          <p:spPr>
            <a:xfrm>
              <a:off x="4169520" y="445248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Willy Wo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rketing Ass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2307"/>
            <p:cNvSpPr/>
            <p:nvPr/>
          </p:nvSpPr>
          <p:spPr>
            <a:xfrm>
              <a:off x="2561040" y="549756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Jerry J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ecret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2309"/>
            <p:cNvSpPr/>
            <p:nvPr/>
          </p:nvSpPr>
          <p:spPr>
            <a:xfrm>
              <a:off x="5778000" y="549756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Ann Ad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ecret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21:00:22Z</dcterms:created>
  <dc:creator>Jim Hill</dc:creator>
  <dc:description/>
  <dc:language>en-US</dc:language>
  <cp:lastModifiedBy>Jim Hill</cp:lastModifiedBy>
  <dcterms:modified xsi:type="dcterms:W3CDTF">2004-03-01T14:00:25Z</dcterms:modified>
  <cp:revision>29</cp:revision>
  <dc:subject/>
  <dc:title>Annual Report</dc:title>
</cp:coreProperties>
</file>