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3FD-60CF-43DC-AE1D-F90E8DF5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E05-6FDC-4479-90F1-01907FBA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7F2-BDA9-4B0B-B7F4-AF1A956D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824-55F1-4454-85E5-21137E88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8AC3-F9B4-4A79-BA20-D9B8DB24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61E0-313A-4E8F-A769-A8C3A29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8366-D8AA-4288-BCF8-0C7253D5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277D-6129-4E60-A354-9663AEB1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1E1C-6D89-474A-AB54-E90B47C8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7BD1-D802-4C50-BA48-DF3717C5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AF12-4AA3-40FF-A154-283209F0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D05-A2A5-4902-9CC7-A33C70E4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C90B-9948-4DD9-A208-C88E2A3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94F3-ACB1-41C9-8E26-1C5219A6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D6CA-1660-4C8E-9D9E-477C89A1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CC28-0DB9-4814-B7DD-9712CDAE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F695-7525-4123-B718-E96B75D6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136-DB16-4F35-9DEE-4F1D8733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564-80BB-4BD1-8EAA-D5FAD952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C13-8350-4EA5-97D7-09097B87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63D-E3B7-46DE-A7A7-1E8E6D1B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120-7D67-4EA5-B1D3-17D81FBF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2BB-66D8-4A7A-87B7-D9E71A10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DAE-39F9-4492-8304-538F7401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7E4A-400C-41A1-99D8-D169C79940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C985-07E2-4FA6-BE75-0C358FF8B3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5" name="_s12310"/>
            <p:cNvCxnSpPr>
              <a:stCxn id="116" idx="0"/>
              <a:endCxn id="117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2308"/>
            <p:cNvCxnSpPr>
              <a:stCxn id="119" idx="0"/>
              <a:endCxn id="120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2306"/>
            <p:cNvCxnSpPr>
              <a:stCxn id="122" idx="3"/>
              <a:endCxn id="117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2304"/>
            <p:cNvCxnSpPr>
              <a:stCxn id="124" idx="3"/>
              <a:endCxn id="120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2301"/>
            <p:cNvCxnSpPr>
              <a:stCxn id="117" idx="0"/>
              <a:endCxn id="126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2300"/>
            <p:cNvCxnSpPr>
              <a:stCxn id="120" idx="0"/>
              <a:endCxn id="126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33Z</dcterms:modified>
  <cp:revision>34</cp:revision>
  <dc:subject/>
  <dc:title>Annual Report</dc:title>
</cp:coreProperties>
</file>