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F4D-CCC6-4556-9874-D51ED61B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0A6-0E98-4386-A24C-FE9D428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A2C-0E36-4722-8882-C55DD400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C70-5920-4D69-9A8B-FD1EAFB7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E26B-9F95-4437-AA9A-5509A173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5610-DB32-4CEC-A6E3-871EA1E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503-F892-4AA2-8BDC-B3FFDE5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69B9-BD5F-4C63-BB49-B07C383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2013-6CF5-4CB5-85AB-F5F8210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BB6C-4105-44AD-821A-76541DF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3574-F1C9-4899-80CB-C129EF9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756-C82C-4A85-89DA-E01E15A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1B65-4082-4346-8176-DE4460D1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B95A-4A0F-4378-8A05-09413C1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EC1B-88F3-4DBA-B204-639AB41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48D5-C2B4-42D5-8991-B42D51FC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3BBA-C7D3-4244-BF64-5466931C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DE9-8897-4F94-B3F7-87DCB066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E9B-C1A3-47B8-BA98-E7D0A5BC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CEA-B591-43BB-8F2A-F5417862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357-DAFC-4779-8061-ABAD572F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381-85DA-43C4-84CC-D8F2CDD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7F5-1B14-4D3E-AE16-827AAFF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486-34E5-4E90-BD4E-F964385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F16-4210-468A-9A9E-C18A815659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4C2-CE69-4A5C-8106-D7D64CB56A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14Z</dcterms:modified>
  <cp:revision>7</cp:revision>
  <dc:subject/>
  <dc:title>Worldwide Sales Summary</dc:title>
</cp:coreProperties>
</file>