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D9E-42B8-45F6-B9FC-EFD00035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03A-F0F8-4E2C-9F3B-DE08D227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6A4-A4B6-4B11-88BC-EB7C96CF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466-96B7-437E-BA94-4DC18215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AA58-A8B7-4D0E-9EE3-D64A3B38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4769-104B-4A3F-9CC0-2A05593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D4FB-555D-4EC6-AF90-8A3F8ABC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576-3783-4374-89A0-267AC3C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6B25-E85F-4B36-852B-90081CF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F6A4-149E-4F3A-9B0F-54AD9F4B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3FFD-97EB-4C23-80F8-C00F700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4AF-DF5A-4FC3-9482-9699F05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3EF3-4A69-4303-B245-71C006E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ACA-96DA-4A59-9B74-C2CB8FA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D5F9-CE49-4BBE-9D94-EB3C445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19C1-6966-42D5-96CD-7EE2FE89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D87A-6CA5-4328-A53A-558A6E3F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FAF-3002-49C2-A789-11C58ED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AD6-8BDE-4BB0-A70B-658A4EF8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DAB-01F7-4B3D-A543-29AEF660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53D-46A8-40F4-966A-E098C04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76C-28D9-4B33-83A5-A3DF14A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D3C-AC2E-4DDB-B4D5-FC24630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EF6-7E9C-4BD7-B9E1-ED2CCF7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6D3A-88DC-4E4E-AD41-1272020897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D37-A01E-421D-BD75-7CA59CC28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07Z</dcterms:modified>
  <cp:revision>15</cp:revision>
  <dc:subject/>
  <dc:title>Annual Report</dc:title>
</cp:coreProperties>
</file>