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775-F01B-4993-A48A-1FD3ABEB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E61-A9FB-4991-AD59-C007FB6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CFF-1099-448F-B401-62D6D3A3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56C-7521-4860-9DCB-19FC2694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63CB-3038-4915-8EF1-37738245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8A58-6106-4D61-B5FB-41E0968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C516-AE7B-4D06-BBFA-48B3208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9628-A6A4-44BC-BC29-B7767F40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7C6-46A7-45B5-A72D-FFF3E220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B67-FC4F-4821-91F7-2FC2956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F1B9-6148-4F82-844B-9A11D6E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E24-986A-4728-AC5E-D24312B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BC2-1934-4C6B-A22D-87345BF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FBF-39F9-41C8-8C6E-912CB9F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FE8B-09CF-4BE2-83A8-87AC691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742C-DBB9-4E83-82D3-95772275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8BF-A1BB-4EC5-8E55-706217E6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E72-C64D-4CAF-A986-23DC454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BBC-A14E-4C1C-8FE7-1080D431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F6C-7731-4111-BDAB-8D5AC5F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F71-68B0-4764-B504-8FE03079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CE0-2837-4155-AC65-7856022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897-76BF-4289-8157-C728644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F17-1598-421C-BEBB-3ACE367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392-206B-4791-B199-4B7EB8D8B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2E6-EF34-4135-9D8F-251E2E608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16Z</dcterms:modified>
  <cp:revision>24</cp:revision>
  <dc:subject/>
  <dc:title>Annual Report</dc:title>
</cp:coreProperties>
</file>