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8A0-D6E9-49AB-91C6-DF84C3DC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9DB-BBE1-4F3C-BBCB-9EB6919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A6D-D4D5-4EBE-9DBC-04008A36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1A6-5DF6-45B3-961A-EF586B20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7F6-82B3-43C1-81A6-54541491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450-A1DE-49F1-AA35-A14B375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B58-FCDA-45BE-A19D-4DDCADDE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ABD-E218-4FB9-BC26-6E32EE3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CD5-7506-4D43-B892-551E21BD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1FE-A959-432A-A0C3-B57CA65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CA3-6DD3-40A6-B241-55010A5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3E0-591A-4DAF-B048-C128CA6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588-E2F0-4E5B-8ED1-E74769DA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20Z</dcterms:modified>
  <cp:revision>16</cp:revision>
  <dc:subject/>
  <dc:title>New Courses</dc:title>
</cp:coreProperties>
</file>