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F36A-D2C5-477C-B6DC-D0299E59E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D6A4-98BA-4E65-B111-2FC24C7A6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04E7-21F6-478B-80B7-416B44B0D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9E8D-9661-4439-80BF-CC908E8E7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5B74-3258-4EF3-8419-E2DCEBC49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6249-F671-4BC4-83C7-AF3D4E784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2015-4008-4BF7-9CA3-7FD5B81C6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6FE5-F77F-4BEA-A847-37EA2157C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C985-BC39-48B0-8AC7-266A309C2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5ED6-3D93-4062-AB6A-D50F7844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DCB9-F3E7-40BD-9A7A-0F665012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4735-7251-485E-BFAF-99B71617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952B5-463D-4C96-A248-BBDFE1497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tional Computer C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ldwide Mark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62520" y="4267080"/>
            <a:ext cx="4343400" cy="1828800"/>
          </a:xfrm>
          <a:prstGeom prst="ellipse">
            <a:avLst/>
          </a:prstGeom>
          <a:solidFill>
            <a:srgbClr val="cc00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- We’re Everywhere 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th Ame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r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ro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ed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c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Ange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43400" y="2895480"/>
            <a:ext cx="3809880" cy="1447920"/>
          </a:xfrm>
          <a:prstGeom prst="roundRect">
            <a:avLst>
              <a:gd name="adj" fmla="val 16667"/>
            </a:avLst>
          </a:prstGeom>
          <a:solidFill>
            <a:srgbClr val="9900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ur new Vancouver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scheduled to open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d of this yea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er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South W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d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cas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ens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sb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i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tal Sales (All Region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914400" y="2973240"/>
          <a:ext cx="7315200" cy="312264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rth Amer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uro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stral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</a:tr>
              <a:tr h="724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C7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5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9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2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2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C8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6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3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2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C9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8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7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6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les (by Computer Mode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04920" y="2057400"/>
          <a:ext cx="8235720" cy="452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057400"/>
                    <a:ext cx="8235720" cy="452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7T21:02:08Z</dcterms:created>
  <dc:creator/>
  <dc:description/>
  <dc:language>en-US</dc:language>
  <cp:lastModifiedBy/>
  <dcterms:modified xsi:type="dcterms:W3CDTF">2004-01-28T14:00:08Z</dcterms:modified>
  <cp:revision>19</cp:revision>
  <dc:subject/>
  <dc:title>Summary Report</dc:title>
</cp:coreProperties>
</file>