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F33-268F-4F43-9DC0-22D94C91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099-EC1E-42ED-9398-EC9C5387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869-82BD-416D-A02D-3EF915B9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CAC-E9DC-40CF-BA24-7C294FE0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64E-DE18-4127-9EC1-C423F2D1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38F-14F6-4110-8D4B-49A062C8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09D-01C9-4C8F-A7CE-2831B2A5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032-0844-4130-A20B-191FE98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8B8-49A6-4507-AD89-3F21D67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E1F-4EF6-4386-9F78-D0C4D0A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D97-A84F-41AA-9954-FF51D4E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F29-6D16-46E5-B084-B569B85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197-E242-4A29-9221-2E0753500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26708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954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Sales (All Reg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2973240"/>
          <a:ext cx="7315200" cy="3122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7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9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28Z</dcterms:modified>
  <cp:revision>12</cp:revision>
  <dc:subject/>
  <dc:title>Summary Report</dc:title>
</cp:coreProperties>
</file>