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DBA-2AAD-4CA4-BAA1-E9419D58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3262-CE9E-4CFC-8ABA-A65D37B9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671-9EDA-4D8D-80D9-8BB2F31C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AAAC-17DB-4B86-A39E-11C5CE24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CFA-08FD-4A17-B6BC-F4D03FD3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40A-6ED8-45EC-AC38-CA62C9F5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191-91E8-4B63-A21F-12A01338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FA13-FAF9-4B81-9601-61DE59CC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7C95-D030-4F21-875E-BA192BD9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1A5-286C-4682-822F-007B3ACF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006C-3C4E-45EF-BCC0-EC60CE03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2888-1A32-42F5-A73B-9E5FB2A8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D120-A9F3-4D56-914C-4525625C4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 Computer Education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and Winter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ce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Processing for Legal Secret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Databas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oft Office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ables, charts and clip art to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a design template to a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a slid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4648320"/>
            <a:ext cx="4267080" cy="1600200"/>
          </a:xfrm>
          <a:custGeom>
            <a:avLst/>
            <a:gdLst>
              <a:gd name="textAreaLeft" fmla="*/ 974160 w 4267080"/>
              <a:gd name="textAreaRight" fmla="*/ 3292920 w 426708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rn PowerPoi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ludes a Delicious 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urmet sandw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st 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ecued be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rami on r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made p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 sal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Attendees (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Qtr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14400" y="2438280"/>
          <a:ext cx="7315200" cy="3657600"/>
        </p:xfrm>
        <a:graphic>
          <a:graphicData uri="http://schemas.openxmlformats.org/drawingml/2006/table">
            <a:tbl>
              <a:tblPr/>
              <a:tblGrid>
                <a:gridCol w="1828440"/>
                <a:gridCol w="1829160"/>
                <a:gridCol w="1828800"/>
                <a:gridCol w="1828800"/>
              </a:tblGrid>
              <a:tr h="73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o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Y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a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n Die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se Attendees (Word, Excel and Access Cours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2120" y="2076480"/>
          <a:ext cx="744048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76480"/>
                    <a:ext cx="74404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 Computer Education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fering more than 100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0560" y="3581280"/>
            <a:ext cx="2368440" cy="2338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95680" y="4038480"/>
            <a:ext cx="381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 the last 5 years, we have trained more than 500,000 individuals in our training centers across the countr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7:39:09Z</dcterms:created>
  <dc:creator/>
  <dc:description/>
  <dc:language>en-US</dc:language>
  <cp:lastModifiedBy/>
  <dcterms:modified xsi:type="dcterms:W3CDTF">2004-01-28T14:00:19Z</dcterms:modified>
  <cp:revision>33</cp:revision>
  <dc:subject/>
  <dc:title>New Courses</dc:title>
</cp:coreProperties>
</file>