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ED59-E20D-4B20-8E97-B27B8E54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2F64-35CA-4DB7-BA49-54AA110B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53C8-6E3A-4A5D-8B0F-20C805B4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330D-7A81-4822-A496-EBB7D365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11EB-0C0C-42BC-9C85-F48C3BED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D7BE-F35A-4835-BDE6-524250A3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4715-4F51-4E4F-B5F6-5C588DF4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CA13-5DE7-4456-85A1-AD06B131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D0B-4A6A-4C66-BE2D-69E5009F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7FC3-9199-4833-B922-595F598F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4D67-982E-4259-8FE7-92042665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98B-6857-48A2-AED6-E3F76A21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ECFE-1422-47B8-987D-6660ECF69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C Computer Education 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and Winter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Cou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Office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Processing for Legal Secret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Database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oft Office 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ables, charts and clip art to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a design template to a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a slide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ludes a Delicious Lu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urmet sandwi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st chi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ecued be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rami on r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made p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 sal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17:39:09Z</dcterms:created>
  <dc:creator/>
  <dc:description/>
  <dc:language>en-US</dc:language>
  <cp:lastModifiedBy/>
  <dcterms:modified xsi:type="dcterms:W3CDTF">2004-01-28T14:00:08Z</dcterms:modified>
  <cp:revision>8</cp:revision>
  <dc:subject/>
  <dc:title>New Courses</dc:title>
</cp:coreProperties>
</file>