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AD8-C260-4AF0-A5CB-55B8F2B4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77A9-CD41-4256-905C-3C79E3EE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9DA-090A-41AA-91ED-7994FEB2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4BE0-80CC-417F-8CB3-8FA155F7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9DC-5FFB-4F80-A055-99A0815B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5260-D0CC-4C25-8AD3-D280FFCB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245-11AF-4044-BDCF-DC4A8EC5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DE4D-9EA1-4F8C-A513-0B509DEA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1C1-14C6-419D-9D84-43D22D62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A1C-F03F-47F1-98E9-FCE51838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9D1A-5B91-4D5D-A36D-AAED0912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5B8-B78E-4285-8690-32CB1C90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F81A-7882-48B5-9216-7911BDCDF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tional Computer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wide Mar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4267080"/>
            <a:ext cx="4343400" cy="18288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- We’re Everywhere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Ang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895480"/>
            <a:ext cx="3809880" cy="1447920"/>
          </a:xfrm>
          <a:prstGeom prst="roundRect">
            <a:avLst>
              <a:gd name="adj" fmla="val 16667"/>
            </a:avLst>
          </a:prstGeom>
          <a:solidFill>
            <a:srgbClr val="9900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r new Vancouver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scheduled to ope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this ye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outh W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cas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i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Sales (All Regio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14400" y="2973240"/>
          <a:ext cx="7315200" cy="31226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r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stra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7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2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8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3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2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9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8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7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es (by Computer Mod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04920" y="2057400"/>
          <a:ext cx="82357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2357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tional Computer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es are right on targ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2319480" cy="2438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038480" y="3733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next three years we hope to increase worldwide sales by more than 500%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21:02:08Z</dcterms:created>
  <dc:creator/>
  <dc:description/>
  <dc:language>en-US</dc:language>
  <cp:lastModifiedBy/>
  <dcterms:modified xsi:type="dcterms:W3CDTF">2004-01-28T14:00:17Z</dcterms:modified>
  <cp:revision>22</cp:revision>
  <dc:subject/>
  <dc:title>Summary Report</dc:title>
</cp:coreProperties>
</file>