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CA4-C864-437B-A4CB-1DDC3CFC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524-B60F-4D75-8D81-C0F52C3B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71B-F4F9-4BAF-859F-5A66902A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63D-BEE8-4F82-810B-775B1AE3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ABFE-1665-450E-AEB2-F5D02646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9737-7041-4689-BD8B-4347F9A3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D155-AE32-41C6-9596-35A109FF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BA1D-FB5A-4191-93F5-E1B3D477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A871-329C-4CF1-BA7A-A3CAFA30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64B8-B8C7-4FF9-930B-A73CE5C6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1D6F-D490-4159-BEB3-BA38465E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6B4-997B-4525-9492-F0C0BD18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551E-9612-42BE-8EB6-7B8144A0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9F62-BD95-4F11-AE6F-EF53CE8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525E-1447-4385-96E5-A88853F2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D13B-800C-4068-B31C-05700B47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0E3-2915-4B0E-B802-6FF1F1CD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F20-AF6D-46EF-8840-8E726A3D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E83-BA54-4435-B5FD-18D5191E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768-1A4C-47FB-8754-311A5F3F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9C7-D1CF-4EEF-8120-911AF00A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5BC-9A6A-4D1B-83D3-F0840933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126-0CF8-4A9A-98BC-39616F72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BA3-7A44-4666-8C4A-F6CC2C67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AB1E-C94A-4F98-847E-903C9A21551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9A7D-0CCF-4139-8F8C-C2674D5A3A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752480" cy="5562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6020-FA06-424B-BDCC-65FBDEEFE9E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B098-EE3F-4B5A-BE8C-DB73017DD2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6781680" cy="129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743200" y="3733920"/>
            <a:ext cx="541008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B219-21B0-4631-9486-6C438C7849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F103-8B88-4319-8FA6-800A14B9D80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Worldwide Markets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96252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50C9-DBCA-4A79-B434-73C93AE0C1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BA6-467E-4EF5-92B6-022B3129217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North America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74320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w="0">
            <a:noFill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76E1-8837-4084-9E41-CEF353E547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0966-3C07-4C4E-ADC0-B9708C4D72A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Europe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1525-67C4-4BF1-9964-9CAD08455A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9D8E-251E-490E-A615-D6782548035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Australia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Total Sales (All Regions)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97160" y="2436840"/>
          <a:ext cx="6908760" cy="3125520"/>
        </p:xfrm>
        <a:graphic>
          <a:graphicData uri="http://schemas.openxmlformats.org/drawingml/2006/table">
            <a:tbl>
              <a:tblPr/>
              <a:tblGrid>
                <a:gridCol w="1726920"/>
                <a:gridCol w="1727280"/>
                <a:gridCol w="1727280"/>
                <a:gridCol w="1727280"/>
              </a:tblGrid>
              <a:tr h="94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7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8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9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mma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01F-8095-42F5-91C6-51A0637EFC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CE399-EE41-4B08-A667-AA82564EA9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Sales (by Computer Model)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3360" y="1752480"/>
          <a:ext cx="82357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752480"/>
                    <a:ext cx="82357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mma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00C-6C82-4EDB-86E2-1BA5FD3354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68BE2-ACC4-438D-94E7-2CD69CF9E8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International Computer Co.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 are right on targ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2319120" cy="243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3581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next three years we hope to increase worldwide sales by more than 500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mmary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3E7-86DE-4191-AF70-6A3E4D24E0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EF9C9-8222-450C-928A-E3ED95C393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32Z</dcterms:modified>
  <cp:revision>33</cp:revision>
  <dc:subject/>
  <dc:title>Summary Report</dc:title>
</cp:coreProperties>
</file>