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921-18A3-4FBC-A55A-12334B52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946-3739-4F08-94EF-25558CBB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06A-0646-477F-A2F5-9ED4F258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4EE-650D-4777-9701-9B9A41BA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CF9-E0E4-4104-8BF8-69F6F29B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29F-5187-45A6-A373-996BBE06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F67-1159-4357-AAB0-C466D79F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914-7140-4838-8F01-9418CA66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40F-A68D-4242-AB0C-A010166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A00-DC6C-4C8B-9A44-3273C2F8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E9B-98C4-4C0F-9CBF-CF5D9BA2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06A-FA08-4639-B4B1-056EAB27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EEB7-9510-4E62-9B1A-F343B2026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648320"/>
            <a:ext cx="4267080" cy="16002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Attendees (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tr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2438280"/>
          <a:ext cx="7315200" cy="3657600"/>
        </p:xfrm>
        <a:graphic>
          <a:graphicData uri="http://schemas.openxmlformats.org/drawingml/2006/table">
            <a:tbl>
              <a:tblPr/>
              <a:tblGrid>
                <a:gridCol w="1828440"/>
                <a:gridCol w="1829160"/>
                <a:gridCol w="1828800"/>
                <a:gridCol w="1828800"/>
              </a:tblGrid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a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Die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30Z</dcterms:modified>
  <cp:revision>22</cp:revision>
  <dc:subject/>
  <dc:title>New Courses</dc:title>
</cp:coreProperties>
</file>