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899-AC4A-43E1-BDBD-BBC002D8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8B0-E3EF-4EC2-9D3A-02CA2129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C67-19F7-47D0-A4BC-09BD7291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673-ED47-483C-9718-E79C9F9C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EDCF-6F3D-4D87-B13F-7EF9D2B8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F952-4A3F-4AA6-8D97-0D23C9D9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20E8-EBB2-4108-82FA-5F1EF491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8AC2-E774-43F6-B531-B1AA85E0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AC96-037F-48D9-AED9-A5F78BA9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82DB-E37A-4DED-95BB-B82EBDF9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F1F5-0D5B-446A-8174-DE001E44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3F4-52A6-4378-90F5-70EC30A9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D61C-14C3-4A44-A50D-D78910F3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A031-EC5C-40D0-B50E-AE7F2D55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1F18-C989-44F3-9B17-51EAA9C2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5C50-354A-4C8B-B6B5-86BEB637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B391-7C08-4758-A860-2F854C55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150-12B3-47E4-9312-BC1DBF13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4D7-8AEA-4AA8-A456-FF3D1739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A57-1C22-41DE-A44E-C54AB2D0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97D-3FAB-43A4-92C2-39EF4159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F15A-6C4F-49B2-91F7-4F4F03E4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64E-4E23-4DC0-B87F-1D67B9D9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C7A-0C3F-40C3-84A5-869B7937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7BE5-38A6-4F19-8BA1-D1C0D57391E4}" type="datetime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25D6-2181-462C-A662-FDE3048106D9}" type="slidenum"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E5D2-D908-4BFB-90DF-8F4AD1656422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56CD-AD09-4939-9C89-F423EF7CF90E}" type="slidenum"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0100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ABC Computer Education Co.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3657600"/>
            <a:ext cx="4267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all and Winter Course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3506760"/>
            <a:ext cx="3124440" cy="297036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442E-65D1-41F3-A937-88237BCC38EE}" type="slidenum"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5DB7-D8A2-4079-BC8C-7AF92D7CA914}" type="datetime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New Courses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 Power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 Processing for Legal Secreta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tion to Database Programm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Microsoft Office PowerPoint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new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tables, charts and clip art to sli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y a design template to a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e a slide sh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4648320"/>
            <a:ext cx="4267440" cy="1600200"/>
          </a:xfrm>
          <a:custGeom>
            <a:avLst/>
            <a:gdLst>
              <a:gd name="textAreaLeft" fmla="*/ 974160 w 4267440"/>
              <a:gd name="textAreaRight" fmla="*/ 3293280 w 426744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 PowerPoin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C Computer Education 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8D4-C0F1-4F06-9F4F-148C1CAF97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7C8C3-E1DE-46FD-95FB-6778691C10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0F87-91B7-48A3-AFE1-20BEF0DFFB12}" type="slidenum"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0F9C-6DBB-42BC-B7D0-F9E81E13A759}" type="datetime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Includes a Delicious Lunch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urmet sandwich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ast chic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rbecued bee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strami on ry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memade pa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sh sala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Course Attendees (4</a:t>
            </a:r>
            <a:r>
              <a:rPr b="1" i="1" lang="en-US" sz="36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 Qtr.)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65400" y="2933640"/>
          <a:ext cx="6838920" cy="3009960"/>
        </p:xfrm>
        <a:graphic>
          <a:graphicData uri="http://schemas.openxmlformats.org/drawingml/2006/table">
            <a:tbl>
              <a:tblPr/>
              <a:tblGrid>
                <a:gridCol w="1709280"/>
                <a:gridCol w="1710000"/>
                <a:gridCol w="1710000"/>
                <a:gridCol w="1709640"/>
              </a:tblGrid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ork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7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ag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6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la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3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9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5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 Dieg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2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2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C Computer Education Co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0B3-26A9-452A-BBB0-33E0D995EB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FEFAD-66DA-4CAD-B8F6-1E6953CEB0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99A5-5896-4291-81CC-B8299E5CD8A2}" type="slidenum"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8684-F909-4C97-B8A1-291CA069AD7B}" type="datetime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ourse Attendees (Word, Excel and Access Courses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" y="2438280"/>
          <a:ext cx="7020000" cy="38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020000" cy="38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ABC Computer Education Co.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ffering more than 100 cour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65120" y="3505320"/>
            <a:ext cx="2368800" cy="2338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00600" y="396252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In the last 5 years, we have trained more than 500,000 individuals in our training centers across the countr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C Computer Education 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D6B-A09C-4E22-BCAF-7225E69A31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CB704-B5C6-4777-AD05-862616BCFE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7:39:09Z</dcterms:created>
  <dc:creator/>
  <dc:description/>
  <dc:language>en-US</dc:language>
  <cp:lastModifiedBy/>
  <dcterms:modified xsi:type="dcterms:W3CDTF">2004-01-28T14:00:30Z</dcterms:modified>
  <cp:revision>50</cp:revision>
  <dc:subject/>
  <dc:title>New Courses</dc:title>
</cp:coreProperties>
</file>