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2E6-037D-4651-A786-E41BDA82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D2C-5A61-47BC-9943-66A4AB4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8A4-AC88-41FB-97CE-3B3D87FC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A95-5B35-4E20-ABA6-6A6B66E7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312-E768-41A4-8ED9-71723F4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D83-78EE-453C-925D-76EBF5D3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5DC-F7C6-4111-9891-D9624C7E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ED7-5F0F-4F54-B016-4C8C4DB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396-49EA-4AB1-87AB-9BA469C1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FA1-6AFA-4C02-A7EF-06C797CE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5E4-466D-4DCD-AD90-7965FE5E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639-C73B-47B8-949B-0834B1B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2FED-5ED9-4B60-83A4-FCA33451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07Z</dcterms:modified>
  <cp:revision>3</cp:revision>
  <dc:subject/>
  <dc:title>Summary Report</dc:title>
</cp:coreProperties>
</file>