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9A89-D3C8-46F2-8E4B-88D03EE43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C85B-101E-4D53-94DE-AEEBCFD4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F048-577A-4FFA-A120-CDFAF7DC4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86AD-6CB2-4298-A89D-4CFFB38D6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7F09-9B8D-4290-BF3D-42EAE2DD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C3F8-2C89-4E8F-AC77-04FD72B6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20E8-0790-4672-9A27-B8D951FC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FF06-3F20-4926-8861-B811BAEA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42BA-BF5F-4AA4-81AB-BD9079C1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67A9-9919-4C94-8BF3-9A9EAB0B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C20D-F70B-4BBC-9E09-D8B7A415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30F9-1115-4232-8DF8-673C13B2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3129-A988-43AD-A720-D263A827A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tional Computer C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wide Mar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4267080"/>
            <a:ext cx="4343400" cy="182880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- We’re Everywhere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r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o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c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Ang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895480"/>
            <a:ext cx="3809880" cy="1447920"/>
          </a:xfrm>
          <a:prstGeom prst="roundRect">
            <a:avLst>
              <a:gd name="adj" fmla="val 16667"/>
            </a:avLst>
          </a:prstGeom>
          <a:solidFill>
            <a:srgbClr val="9900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r new Vancouver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scheduled to open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 of this yea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r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South W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d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cas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en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sb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i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7T21:02:08Z</dcterms:created>
  <dc:creator/>
  <dc:description/>
  <dc:language>en-US</dc:language>
  <cp:lastModifiedBy/>
  <dcterms:modified xsi:type="dcterms:W3CDTF">2004-01-28T14:00:17Z</dcterms:modified>
  <cp:revision>5</cp:revision>
  <dc:subject/>
  <dc:title>Summary Report</dc:title>
</cp:coreProperties>
</file>