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42E-8761-46E0-925B-40124423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E2D-E03F-4686-A732-24CAB45D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BEC-0C48-4340-BE03-7B3BD5C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0A1-8E84-4D96-BBE9-22B14FF3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559-5762-4664-A3A8-FB9CA8D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320-582F-4E7A-869A-3C5C3F8C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D27-1D3D-4DB2-A44F-C878D5A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7EC-B39C-4DD7-94E2-1897C5FD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B49-E471-4F54-AEB4-DE2CB3A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DCE-AE71-4FBE-9036-C079D82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E99-9814-4D8C-9362-47C79FF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C45-6256-4648-B59A-71D0A13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E7E-C37B-4EE9-A6CA-1C97AD07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Attendees (Word, Excel and Access Cour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076480"/>
          <a:ext cx="74404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6480"/>
                    <a:ext cx="74404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08Z</dcterms:modified>
  <cp:revision>27</cp:revision>
  <dc:subject/>
  <dc:title>New Courses</dc:title>
</cp:coreProperties>
</file>